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FC0-EA50-4704-B83E-79451BB1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2A66-687D-4F9C-BC7C-593EA073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F206-E095-4795-A397-43581FC8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A35B-5E45-427C-BEFF-E27E7561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EB9F-18FD-4CA3-998D-B7ABEC05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161A-B121-4043-98A2-A866FA98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8E1F-FAF8-42F0-9AFA-9CDB60E1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DB08-CC8A-412D-BB38-075E3223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F750-FEE3-47F2-87AD-5CC46BCF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48E8-DA94-421F-8096-A6D79121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D8EF-0C64-4905-BFDA-5018E997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33F4-D07C-415F-A614-C6072945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6F94-3830-4F95-B675-E199AEFB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B9F2-0D94-4614-9E72-07A27EFE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B7DA-8800-4CD8-9E11-1A3943E0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F451-05F9-4491-A403-495027A1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AA41-DB22-4B75-B2C0-57264732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942E1-626B-48E5-BD7C-D214B532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012BB-72B7-40D7-994C-A4C43390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C3122-78D4-43E5-883B-B09EA74A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513DB-3959-485F-A233-F6E04F82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F38C9-F3AA-4A3A-B7C9-99E59C75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5462-4F26-4CDE-B1B8-5B3F903B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D480C-A46C-40D8-9999-B63DF404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7F73B-A4BB-4999-8AE5-73D89D5F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CD8EC-EA0E-48E1-9CC6-C084215F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A5BD4-F31A-48B1-B703-E65CC622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1F5A5-D3E4-49CF-8A41-0D2DBDEE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E3903-A8EF-4CE3-937A-176E0880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508A7-452B-47D7-A9BD-3FCEDD05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D1854-09C9-4524-B4CD-D1B69AD7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6FB7C-9283-440E-B6C2-FF303574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A7B95-5E05-4326-AAB9-B4C390B9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7055-74A8-4552-88E8-79AA37D6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AD1B8-578F-45B3-BB2A-A7C9D6C4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51280-240E-4F97-AF0D-E35BB6CD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8D230-7ADF-43B5-96AD-19248AB9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2DC4E-3225-45E5-A5EB-C5D7C0E2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C8FCB-1DA6-42BE-8427-1BD97A3B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0E414-F25E-4D3C-88C2-BC79EC59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D68E8-E260-4F6D-924B-1E17847F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27903-57D3-452F-8532-018A4E93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791CF-8683-409D-B868-0C3A3E8F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53279-402D-4D37-A8C3-E9B2979C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E7ED-5DE7-4C73-8AC4-5314DE78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6574E-985F-41AA-9949-F673723A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71F62-C6C0-4B1A-8671-7CEDBDCA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F0D2C-80D4-49F4-B21B-6539A245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8ABD7-26B8-4A86-A807-103D5512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4DB62-6F96-4535-BA24-CC5F5930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D3E3B-1747-484B-B797-00862A1B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7E3DE-0C4A-4203-9D3D-4FC11206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E1478-3C10-40A8-A2E8-912C50E5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93BC1-E90A-4A64-992C-AFFF388A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5E4CF-968B-4E41-A25F-750470D6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05A9-55C0-463A-83FE-4852CE43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EB497-8B22-4EF0-BAEF-FB12BFC9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4768C-A94B-4C35-94C7-9E1E63E3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0D111-EA7F-41C6-A3C4-207A9A0D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252FA-D823-4E21-906B-375D476F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3F800-F858-4930-A94E-B0B133E1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88FFA-1EAC-469F-8E27-AAB13AB6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FD935-E535-48CA-9AE0-CDA6EEA1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5940B-341D-4D8F-9372-EBC47744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B3833-873C-4834-965B-4234A6F0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9E5C8-69F5-49FD-83D3-4A0F7C9E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A0A8-55CE-499D-A988-0C63B6CC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B7046-8F4B-4AA1-8411-2B693625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1F687-FF8E-4299-8F4F-6094D017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203A3-C973-474A-B2BB-B841ED9C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3E044-07D9-442A-8193-B04F7386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2AA24-67E5-4762-BDC1-A85D1661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03809-CD1B-4B57-9DDA-AE2961F9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19CF2-D8A6-4350-A647-92FBB139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B09E4-A7BB-4478-B8EB-9E30AECC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AE7AC-1CD2-48ED-8006-D28F7643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DC59B-9F7B-41FE-9EAC-F32C4BB5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F263-F4CF-4F3A-8FFF-570253A9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3262B-5D9E-4E9D-97CB-0D21D03C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F5668-99C1-4B3B-8335-B7C029E8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D5241-CEE4-4BDE-84AA-0D490F9A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63847-B2CA-4397-BB51-19C2C099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807F9-2852-4F46-AD83-3F07DF3A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8198-4DAF-4FB5-AD5C-20633287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6610-6EAF-42FE-88C5-371D6900CDD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C472-1BC1-4CD8-B24D-7ABBF4F44EF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7A3F-A3FF-45C3-AE4F-5BC7BFCA737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130B-EF86-49E1-AC99-2479B3E1E2A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0502-FE79-44F2-949B-CC8B183B894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6B68-C8E1-4C41-88CA-EF31AD643DC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8800" y="1217520"/>
              <a:ext cx="66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39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8800" y="1282320"/>
              <a:ext cx="66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1800" y="1370160"/>
              <a:ext cx="66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4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1800" y="1434960"/>
              <a:ext cx="66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3680" y="1473120"/>
              <a:ext cx="66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39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3680" y="1537920"/>
              <a:ext cx="66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53CA-1F44-4FA1-90E2-EDA2F48B2FA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2514600" y="16761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marL="36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apter </a:t>
            </a:r>
            <a:r>
              <a:rPr b="0" lang="en-US" sz="7100" spc="-1" strike="noStrike">
                <a:solidFill>
                  <a:srgbClr val="ffffff"/>
                </a:solidFill>
                <a:latin typeface="Corbel"/>
              </a:rPr>
              <a:t>2</a:t>
            </a:r>
            <a:endParaRPr b="0" lang="en-US" sz="71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369" name="Object 2"/>
          <p:cNvGraphicFramePr/>
          <p:nvPr/>
        </p:nvGraphicFramePr>
        <p:xfrm>
          <a:off x="914400" y="1295280"/>
          <a:ext cx="24876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24876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Rectangle 8"/>
          <p:cNvSpPr/>
          <p:nvPr/>
        </p:nvSpPr>
        <p:spPr>
          <a:xfrm>
            <a:off x="685800" y="3657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Starting SPSS and  Entering Data in Window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escriptive Statistic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verview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reating a data fil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ransforming data: recoding, creating new variabl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lecting cas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escribe data: frequency, mean and standard devia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"/>
          <p:cNvSpPr/>
          <p:nvPr/>
        </p:nvSpPr>
        <p:spPr>
          <a:xfrm>
            <a:off x="685800" y="160020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fer Tex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1.  Computer Exercise 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rting SPSS and Entering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"/>
          <p:cNvSpPr/>
          <p:nvPr/>
        </p:nvSpPr>
        <p:spPr>
          <a:xfrm>
            <a:off x="3124080" y="324468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OF CHAPTER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PSS Window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ree Window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Data Editor Window: data entr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Output Window: results of statistical tes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Syntax Window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: log for your operations; run command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ata entr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mport data from Excel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ntering data at Data Editor Window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Variable View Window: establishing the variables and their characteristic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ata View Window: entering data for every cas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Variable View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Type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- allows you to define the type of variab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Width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-- total number of characters: 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ecimal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-- number of characters beyond the decimal poi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Label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- allows you to list a more extensive label for your variab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Value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-- allows you to provide labels for the various levels of a variab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inu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Measure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-- allows you to determine the kind of scale for that particular variab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Missing Values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- enables you to designate certain scores as missing. 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Column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--allows you to change the maximum number of characters in a colum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Alig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-- allows you to determine the alignment of your colum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ata View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ercis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xample: two groups: male and female and their midterm test scor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escriptive Statistic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Step 1</a:t>
            </a:r>
            <a:r>
              <a:rPr b="1" lang="en-US" sz="3000" spc="-1" strike="noStrike">
                <a:solidFill>
                  <a:srgbClr val="af0000"/>
                </a:solidFill>
                <a:latin typeface="Corbel"/>
              </a:rPr>
              <a:t>.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Click on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Analyze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then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Descriptive Statistic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then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Frequenc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Step 2.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Highlight each of the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variable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for which you are interested in computing descriptive statistic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Step 3.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on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Statistic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and select the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Mea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and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Std. deviatio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. Click on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Continue</a:t>
            </a: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nd then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OK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inu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orbel"/>
              </a:rPr>
              <a:t>Step 4.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Your output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6" name="Picture 6" descr="C:\Documents and Settings\Owner\Desktop\spss.bmp"/>
          <p:cNvPicPr/>
          <p:nvPr/>
        </p:nvPicPr>
        <p:blipFill>
          <a:blip r:embed="rId1"/>
          <a:stretch/>
        </p:blipFill>
        <p:spPr>
          <a:xfrm>
            <a:off x="1828800" y="2743200"/>
            <a:ext cx="685800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af"/>
                </a:solidFill>
                <a:latin typeface="Consolas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c1eeff"/>
                </a:solidFill>
                <a:latin typeface="Consolas"/>
              </a:rPr>
              <a:t>Computing a new variable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on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Transform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and then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Comput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ype name for a  new variab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ype expression at 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Numeric Expression Window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n click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 O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6:33:42Z</dcterms:created>
  <dc:creator>Prasanth</dc:creator>
  <dc:description/>
  <dc:language>en-US</dc:language>
  <cp:lastModifiedBy>PC-2</cp:lastModifiedBy>
  <dcterms:modified xsi:type="dcterms:W3CDTF">2010-02-26T07:36:33Z</dcterms:modified>
  <cp:revision>103</cp:revision>
  <dc:subject/>
  <dc:title>Chapter 1</dc:title>
</cp:coreProperties>
</file>