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384AB-9A23-434C-9044-F3BD6A7A3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FBAEE-4257-4D2A-A67F-2F11D0CEF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06C60-8838-468D-8D83-B76496E97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FC6EC-0CA6-4657-85B1-D040F4B30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9CE4D4-41C3-4F80-A919-93096A01D8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F5C82-2E5F-4A66-A9CD-93BF26546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70D93-C9BD-477F-BF1F-D693297F8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2C070-EBC8-433D-BE35-08C92BFBA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1EDF3-B4A4-45AB-AB82-6D5524FE1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E9A74D-AA12-44C3-A466-EBC47A6DC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D7CF5-2B3D-4EDD-A231-C30D7C2C2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E8F9B-B178-4B78-B30F-B6F514B4A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AC4FBB-1B0B-4D5C-9607-06988946C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7DDBE-88BD-4AE6-A050-510004FC0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B5DC8-62ED-4ED2-B60B-24BB2AC36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8EE072-7F78-4CB5-80FD-9CD0250042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8F22F6-2F0F-4CD7-892F-7E03610DE9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8D3D1C-A9CE-4313-A410-8F26AAFC31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F48D00-0071-40BA-B02E-2282FE04BC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F3FD44-7DDE-4953-95BE-4A3CA6AA1B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AE5989-D9C9-45F8-91D2-41F4F4576F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76E67F-C44A-49BB-ADEE-159AF133B6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D0669-04CE-4B08-A592-C148DF84D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4C40BA-66A5-4F45-90F4-641A07FE01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17A202-85B6-4D66-9437-82513F27E9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290A7C-681B-411E-A04E-150D7BA31E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E8852E-BC37-4026-9532-469A7DB97A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4B5C5A-9D89-47D9-B721-CC5EDCA1F2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9A1556-0906-4854-8F71-6B1EB26CAF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4DA06C-F1E9-47AF-B50B-8A4A367AD6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C191D5-4649-47A9-8797-ABD1A7F0E8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512FF3-69BA-410B-B847-E013D9D49B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C2021B-6904-4DA2-821F-0B47B1E733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6853D-220E-4D74-B2EC-83CCBEB7C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4E3043-736F-43DB-8474-7EA1AB6224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45563C-4E1F-4F49-99B2-466C72B86C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90C964-B2CD-45E5-BEAA-996BBE3964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883754-A56F-4D71-8663-4F78CAC2BE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579F1E-D015-4F3A-B956-48217C13C7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A54D0C-01BC-4CEE-986F-D04010D300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3B1437-0372-4A3D-9226-DE9BB139F7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B22B78-CAE8-4B74-B9D4-07C7DEADDE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542879-6E76-43BC-83FD-9EDB4E9C82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59B270-5C46-4EAC-AE53-B646961469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0BFAF-A18A-4E5C-B018-FEC07218D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E5936A-450C-43C7-BAF5-7511300149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0FE802-FB22-486C-8894-9E0CD40629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696DC1-DDA3-4794-BA91-9543D26F57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2C2B1C-CA23-4782-A2B6-D0138229C8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B562E1-49CC-4C9B-BFBD-3A7F9FC83F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4613F4-AE48-4513-8662-2A78C44B14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06923F-7F0A-41E7-AF4F-3456547084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AA1480-50AB-4D34-A97E-3E81AE7271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851972-6247-4C78-8465-C273CEE278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CCACE2-E424-49EF-9F91-D71C1190D3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C3C2F-492E-47A1-BB6C-E60BDFC57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8CBFDB-9D5E-48AA-BA2F-1CCAF20CE6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5E30B6-D076-4842-BF49-1C7291EAA7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4668E0-791E-4288-871B-FB599A781D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33D114-F3FE-4E9C-A228-1569962A7F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0F90BF-88A5-45F2-AA45-1284626687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935358-588D-4A77-87B1-94982DEF85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2D2B41-DDA0-42A5-B4B0-5BCC141B87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BE96FA-96A0-488B-8FC2-CD151D2EF7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01787D-A4F2-495D-9971-843ADF18FA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225E88-E021-4D42-9697-43C10C1A02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3690A-848C-476C-A56C-DE002334E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024EDC-5946-4ABD-8D56-348002BAC4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371B83-452C-4A19-9AC7-A03C2E5183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70AC1C-C5E2-4BA9-95F3-49CEDB76E22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6AA20B-0F58-430F-8C33-893A3A6D7E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4B37CF-3960-42FD-93F8-EB95EBBDC1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D3149B-1B63-4F6E-8E24-56C013B3D5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8C9DFE-18E1-4B6E-BF4E-9A917F7AA0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54E725-A872-4519-9692-E7F744BF4A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C74314-0B2D-4834-901F-954247C927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5ACA0F-4223-4C44-929C-8B318CA57F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B44F2-5F62-4B16-B259-6BAE62BFF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39B1FD-D222-4B53-A3EA-807348DFD2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73065C-4DBE-4AC4-AE02-77A236EAD6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7ED9D8-5BBA-4B64-9A55-12DAAE1605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26387F-0059-4021-B18D-71BB31C0CC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7DBC3A-C889-4E1B-99FC-CFD6911DE7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427AE-1014-4529-BBC1-D18D6A9470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7B72A-5C9B-4CE2-BB07-9DFAE1E2C56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F4E11-5822-4E8D-A2BF-C1FEB1921603}"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05582-4E3E-4741-83E0-CEA05627A6C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069A5-AE05-42B5-B95A-A265AF3F233A}"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D9690-D244-479C-8B7D-E012368F03D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F84B4-31C8-4D57-99F5-90FEB56861F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520" y="1217520"/>
            <a:ext cx="128880" cy="131400"/>
            <a:chOff x="8516520" y="1217520"/>
            <a:chExt cx="128880" cy="131400"/>
          </a:xfrm>
        </p:grpSpPr>
        <p:sp>
          <p:nvSpPr>
            <p:cNvPr id="316" name="Straight Connector 20"/>
            <p:cNvSpPr/>
            <p:nvPr/>
          </p:nvSpPr>
          <p:spPr>
            <a:xfrm>
              <a:off x="8576640" y="1217520"/>
              <a:ext cx="687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520" y="1282680"/>
              <a:ext cx="972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6640" y="1282320"/>
              <a:ext cx="687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520" y="1370160"/>
            <a:ext cx="128520" cy="131400"/>
            <a:chOff x="8669520" y="1370160"/>
            <a:chExt cx="128520" cy="131400"/>
          </a:xfrm>
        </p:grpSpPr>
        <p:sp>
          <p:nvSpPr>
            <p:cNvPr id="320" name="Straight Connector 26"/>
            <p:cNvSpPr/>
            <p:nvPr/>
          </p:nvSpPr>
          <p:spPr>
            <a:xfrm>
              <a:off x="8728920" y="1370160"/>
              <a:ext cx="691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520" y="1435320"/>
              <a:ext cx="975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8920" y="1434960"/>
              <a:ext cx="691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400" y="1473120"/>
            <a:ext cx="128880" cy="131400"/>
            <a:chOff x="8321400" y="1473120"/>
            <a:chExt cx="128880" cy="131400"/>
          </a:xfrm>
        </p:grpSpPr>
        <p:sp>
          <p:nvSpPr>
            <p:cNvPr id="324" name="Straight Connector 30"/>
            <p:cNvSpPr/>
            <p:nvPr/>
          </p:nvSpPr>
          <p:spPr>
            <a:xfrm>
              <a:off x="8381520" y="1473120"/>
              <a:ext cx="687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400" y="1538280"/>
              <a:ext cx="972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1520" y="1537920"/>
              <a:ext cx="687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8F635-64C4-433E-B26D-9F83A4E618C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subTitle"/>
          </p:nvPr>
        </p:nvSpPr>
        <p:spPr>
          <a:xfrm>
            <a:off x="2514600" y="1676160"/>
            <a:ext cx="4495680" cy="1066680"/>
          </a:xfrm>
          <a:prstGeom prst="rect">
            <a:avLst/>
          </a:prstGeom>
          <a:noFill/>
          <a:ln w="0">
            <a:noFill/>
          </a:ln>
        </p:spPr>
        <p:txBody>
          <a:bodyPr lIns="100440" anchor="b">
            <a:noAutofit/>
          </a:bodyPr>
          <a:p>
            <a:pPr marL="363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ffffff"/>
                </a:solidFill>
                <a:latin typeface="Corbel"/>
              </a:rPr>
              <a:t>Chapter </a:t>
            </a:r>
            <a:r>
              <a:rPr b="0" lang="en-US" sz="7100" spc="-1" strike="noStrike">
                <a:solidFill>
                  <a:srgbClr val="ffffff"/>
                </a:solidFill>
                <a:latin typeface="Corbel"/>
              </a:rPr>
              <a:t>4</a:t>
            </a:r>
            <a:endParaRPr b="0" lang="en-US" sz="7100" spc="-1" strike="noStrike">
              <a:solidFill>
                <a:srgbClr val="ffffff"/>
              </a:solidFill>
              <a:latin typeface="Corbel"/>
            </a:endParaRPr>
          </a:p>
        </p:txBody>
      </p:sp>
      <p:graphicFrame>
        <p:nvGraphicFramePr>
          <p:cNvPr id="369" name="Object 2"/>
          <p:cNvGraphicFramePr/>
          <p:nvPr/>
        </p:nvGraphicFramePr>
        <p:xfrm>
          <a:off x="914400" y="1295280"/>
          <a:ext cx="2487600" cy="1905120"/>
        </p:xfrm>
        <a:graphic>
          <a:graphicData uri="http://schemas.openxmlformats.org/presentationml/2006/ole">
            <p:oleObj r:id="rId1" spid="">
              <p:embed/>
              <p:pic>
                <p:nvPicPr>
                  <p:cNvPr id="370" name="Object 2" descr=""/>
                  <p:cNvPicPr/>
                  <p:nvPr/>
                </p:nvPicPr>
                <p:blipFill>
                  <a:blip r:embed="rId2"/>
                  <a:stretch/>
                </p:blipFill>
                <p:spPr>
                  <a:xfrm>
                    <a:off x="914400" y="1295280"/>
                    <a:ext cx="2487600" cy="1905120"/>
                  </a:xfrm>
                  <a:prstGeom prst="rect">
                    <a:avLst/>
                  </a:prstGeom>
                  <a:ln w="0">
                    <a:noFill/>
                  </a:ln>
                </p:spPr>
              </p:pic>
            </p:oleObj>
          </a:graphicData>
        </a:graphic>
      </p:graphicFrame>
      <p:sp>
        <p:nvSpPr>
          <p:cNvPr id="371" name="Rectangle 8"/>
          <p:cNvSpPr/>
          <p:nvPr/>
        </p:nvSpPr>
        <p:spPr>
          <a:xfrm>
            <a:off x="685800" y="3657600"/>
            <a:ext cx="784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Analysis of Variance(ANOVA) </a:t>
            </a:r>
            <a:endParaRPr b="0" lang="en-US" sz="3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68">
                                            <p:txEl>
                                              <p:pRg st="0" end="0"/>
                                            </p:txEl>
                                          </p:spTgt>
                                        </p:tgtEl>
                                        <p:attrNameLst>
                                          <p:attrName>style.visibility</p:attrName>
                                        </p:attrNameLst>
                                      </p:cBhvr>
                                      <p:to>
                                        <p:strVal val="visible"/>
                                      </p:to>
                                    </p:set>
                                    <p:animEffect filter="blinds(horizontal)" transition="in">
                                      <p:cBhvr additive="repl">
                                        <p:cTn id="7" dur="500"/>
                                        <p:tgtEl>
                                          <p:spTgt spid="36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71">
                                            <p:txEl>
                                              <p:pRg st="0" end="0"/>
                                            </p:txEl>
                                          </p:spTgt>
                                        </p:tgtEl>
                                        <p:attrNameLst>
                                          <p:attrName>style.visibility</p:attrName>
                                        </p:attrNameLst>
                                      </p:cBhvr>
                                      <p:to>
                                        <p:strVal val="visible"/>
                                      </p:to>
                                    </p:set>
                                    <p:animEffect filter="blinds(horizontal)" transition="in">
                                      <p:cBhvr additive="repl">
                                        <p:cTn id="12" dur="500"/>
                                        <p:tgtEl>
                                          <p:spTgt spid="3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2" name="Rectangle 1"/>
          <p:cNvSpPr/>
          <p:nvPr/>
        </p:nvSpPr>
        <p:spPr>
          <a:xfrm>
            <a:off x="533520" y="554760"/>
            <a:ext cx="7772400" cy="4911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NALYSIS OF VARIANCE</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One of the most useful techniques in modern statistical methods is what is known as “analysis of variance” developed by R.A.Fisher. Initially this technique was applied to the analysis of agricultural experiments (use of various fertilizers, various seeds), but later it was extended to many other fields of scientific research including social sciences. The Z or ‘t’ is used for testing the null hypothesis when we have means of only two samples to consider. But ANOVA is used when multiple sample cases are considered. This technique is important in the context of all those situations where we want to compare more than two populations such as in comparing the yield of several varieties of seeds, the smoking habits of five groups of college students and so on .</a:t>
            </a:r>
            <a:r>
              <a:rPr b="0" lang="en-US" sz="2000" spc="-1" strike="noStrike">
                <a:solidFill>
                  <a:srgbClr val="000000"/>
                </a:solidFill>
                <a:latin typeface="Arial"/>
                <a:ea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3" name="Rectangle 1"/>
          <p:cNvSpPr/>
          <p:nvPr/>
        </p:nvSpPr>
        <p:spPr>
          <a:xfrm flipV="1" rot="10800000">
            <a:off x="228600" y="633600"/>
            <a:ext cx="8686800" cy="5336640"/>
          </a:xfrm>
          <a:prstGeom prst="rect">
            <a:avLst/>
          </a:prstGeom>
          <a:noFill/>
          <a:ln w="0">
            <a:noFill/>
          </a:ln>
        </p:spPr>
        <p:style>
          <a:lnRef idx="0"/>
          <a:fillRef idx="0"/>
          <a:effectRef idx="0"/>
          <a:fontRef idx="minor"/>
        </p:style>
        <p:txBody>
          <a:bodyPr lIns="0" rIns="0" tIns="76320" bIns="763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SSUMPTIONS IN ANALYSIS OF VARIANCE</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NOVA technique is used to test for differences among the means of populations by examining the amount of variation within each of there samples, relative to the amount of variation between the samples. While using ANOVA we assume that the following assumptions: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Normality</a:t>
            </a:r>
            <a:r>
              <a:rPr b="0" lang="en-US" sz="2000" spc="-1" strike="noStrike">
                <a:solidFill>
                  <a:srgbClr val="ffffff"/>
                </a:solidFill>
                <a:latin typeface="Arial"/>
                <a:ea typeface="Times New Roman"/>
              </a:rPr>
              <a:t> : Each of the sample is drawn from a normal population. (However, if the sample sizes are large enough this assumption is not required). </a:t>
            </a:r>
            <a:endParaRPr b="0" lang="en-US" sz="20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Homogeneity of Variance: </a:t>
            </a:r>
            <a:r>
              <a:rPr b="0" lang="en-US" sz="2000" spc="-1" strike="noStrike">
                <a:solidFill>
                  <a:srgbClr val="ffffff"/>
                </a:solidFill>
                <a:latin typeface="Arial"/>
                <a:ea typeface="Times New Roman"/>
              </a:rPr>
              <a:t>Each of these populations has the same variance.</a:t>
            </a:r>
            <a:endParaRPr b="0" lang="en-US" sz="20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Independence of error: </a:t>
            </a:r>
            <a:r>
              <a:rPr b="0" lang="en-US" sz="2000" spc="-1" strike="noStrike">
                <a:solidFill>
                  <a:srgbClr val="ffffff"/>
                </a:solidFill>
                <a:latin typeface="Arial"/>
                <a:ea typeface="Times New Roman"/>
              </a:rPr>
              <a:t>This assumption states that all factors other than the one or more being tested are effectively controlled. Violation of this assumption can seriously affect inference from the analysis of varian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4" name="Rectangle 1"/>
          <p:cNvSpPr/>
          <p:nvPr/>
        </p:nvSpPr>
        <p:spPr>
          <a:xfrm>
            <a:off x="685800" y="2975400"/>
            <a:ext cx="830592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Refer Tex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  </a:t>
            </a:r>
            <a:r>
              <a:rPr b="1" lang="en-US" sz="2000" spc="-1" strike="noStrike">
                <a:solidFill>
                  <a:srgbClr val="ffffff"/>
                </a:solidFill>
                <a:latin typeface="Arial"/>
                <a:ea typeface="Times New Roman"/>
              </a:rPr>
              <a:t>4.1.  COMPUTER EXERCISE  ON  ANALYSIS OF VARIAN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5" name="Rectangle 1"/>
          <p:cNvSpPr/>
          <p:nvPr/>
        </p:nvSpPr>
        <p:spPr>
          <a:xfrm>
            <a:off x="3124080" y="3244680"/>
            <a:ext cx="33530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D OF CHAPTER  </a:t>
            </a:r>
            <a:r>
              <a:rPr b="1" lang="en-US" sz="4000" spc="-1" strike="noStrike">
                <a:solidFill>
                  <a:srgbClr val="ffffff"/>
                </a:solidFill>
                <a:latin typeface="Arial"/>
              </a:rPr>
              <a:t>4</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16:33:42Z</dcterms:created>
  <dc:creator>Prasanth</dc:creator>
  <dc:description/>
  <dc:language>en-US</dc:language>
  <cp:lastModifiedBy>PC-2</cp:lastModifiedBy>
  <dcterms:modified xsi:type="dcterms:W3CDTF">2010-02-26T07:36:52Z</dcterms:modified>
  <cp:revision>105</cp:revision>
  <dc:subject/>
  <dc:title>Chapter 1</dc:title>
</cp:coreProperties>
</file>