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5C9F-2748-42AE-B5C0-D40EF874D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2CF5-9944-4A80-8A1A-183B6BA8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788A-8F38-47DC-9F1D-5907F15AF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2282-6A38-41EB-88DA-3A7BF865E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D16B-80FD-4054-99A3-149CF42A0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1735-91E3-466E-BEF5-030EDD18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F38E-C187-45F9-88B8-CBFB194B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2EE6-A029-44DA-AA53-BC0A6B9A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67F14-685C-441D-99DE-B396741F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5D28-4C1A-4281-B777-4002035D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DC11-1836-4CF2-A12C-8E6E6C61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E9B2-223F-4DF3-B492-66C1BD6F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F175-FEAB-46F3-A7CE-45B6CC9D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A8D1-39B2-4CF1-ADBF-E6555DD9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B0E9-729D-4345-A2F8-AB0D5028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1382-082B-4E6F-B353-918639D4F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F44F-A121-4775-B4F8-F3F7E4121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E031E-AA3D-4FF2-8F67-9EEF96D1A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2D80A-225B-4EF4-86BE-1D5568D5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6B04E-D62D-49EB-B965-E800A476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44843-0C9F-44A5-B8EE-6F2A1D42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B1C3B-6E6A-431E-8FD4-C69FEE57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4FDE-D8A8-42F8-B28A-6C37EA1B1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71CDC-7A90-4CE8-A67F-307382FE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4D0B7-4A82-4ACF-B6C0-DE73526E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42D15-C7D1-4E2D-A81D-1087D110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A1FD7-F338-473C-8EA9-E054D35C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F52B2-375B-484A-9810-F5590B50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8EEDF-7F8A-421D-BEB6-FB1F9AB70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5CC5F-2CBF-4329-B546-4BDF564C8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CB4E9-65E0-445C-92AA-EF15752A1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5A804-8EA4-42A8-8967-375836B7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B7BF0-BABD-4B10-BFD7-5FFD1B9F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455E-C842-4128-A948-833C64F7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2DA52-A754-4725-954B-07CD9FAD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284A5-BBBF-4BA7-A52B-4EC4F084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4485C-B973-4C8B-A819-D031C017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71210-ACAE-48F5-8CB0-61148160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C6BCD-66A6-42ED-813B-85362809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200B0-555B-40BC-A2CA-E6DE2FA4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11357-6596-4EA9-97C7-A2E39C22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4751D-E5FC-45BD-A2B5-4BF44D917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5C8FF-90AC-4996-A7A2-A331A9DB1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7A5E8-6D06-414D-996D-431054B88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2D38-0A2F-426D-AC0B-F5863101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F6AE7-B63A-4D71-8000-7AF909FD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C7797-3554-45D1-8519-8C53061E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DE0D8-620D-400B-AECD-45F1ED1B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99CCD-00B9-4F72-81D5-9F2800E6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B717D-E0AB-4903-BBEE-E167C253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40A4F-BF34-4961-98AE-57501A23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6E891-67DF-471F-A497-BC6CFA74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BCABB-156C-4AA7-A3F1-ED672F01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07BF0-B4A1-44DE-BFD0-05F4BD33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F9C04-789D-46EA-A023-C78DBFFAE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4C2C-2BBB-4939-B357-A1E87C78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87F5A-D4D3-497E-848D-58D4D16E3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02BE2-468D-4DBB-967E-D15E9AFAE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23097-E26A-4340-9470-1ABE293F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A80AA-D64B-48F3-994E-FF50EDE9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A6BB4-2CDD-4F15-A2F9-7A35FE53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5F21C-912B-4FC9-BB37-7C2710BF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B0943-26FB-4B76-A88F-4109F2B7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FE405-CD95-4462-84F7-BCF3E7C7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6F99F-BCE3-4AAA-8F68-0411C22D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94235-36A4-4038-9065-7F970143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4FD8-6728-406C-B4F3-B077222D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C30DC-9C6A-4072-9037-95FDB813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92943-A7C7-4431-954D-CE1A80A4C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CF025-3CCB-43D8-A505-9512AADB7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78BC4-CA61-477B-93CA-76BC233E8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98CBC-23E5-4370-B07A-367E2700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96262-4151-4034-89FB-81CD4CA5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BE346-6ACE-4BF5-9630-9D2C91D9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49F83-BE4A-422C-9524-D41E1293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F084F-F545-4D1D-95D0-A09698E1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B4B59-7C9C-45E9-AE04-1585123E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C9E2-EE88-4661-8952-FD5383D5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7CA31-BE75-4EF1-8AB7-BBEFADCF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85FCB-B576-4EDA-B309-746222E1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0BD7C-03EB-4C84-91F8-6D5D107F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343CB-5313-4280-9F95-615A78EE5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221AE-FB87-485C-8565-CAF634780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1CF5-754E-4DD4-B023-97A60E9B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255F-A66C-4058-976A-13B61571DFA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A1AA-66CE-4BD2-B96B-56BE30D9814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0788-D57C-4370-BA95-DCC8AC5A0E2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CAD2-1E3A-4531-8256-7B759F6B0F3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295D-889E-415F-8BB4-9E9588F56D6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8D5C-F880-468B-83EA-344D8A330E4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9520" y="1217520"/>
              <a:ext cx="655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520" y="1282680"/>
              <a:ext cx="92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9520" y="1282320"/>
              <a:ext cx="655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520" y="1370160"/>
            <a:ext cx="128880" cy="131400"/>
            <a:chOff x="8669520" y="1370160"/>
            <a:chExt cx="12888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2520" y="1370160"/>
              <a:ext cx="658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520" y="1435320"/>
              <a:ext cx="93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2520" y="1434960"/>
              <a:ext cx="658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4400" y="1473120"/>
              <a:ext cx="655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400" y="1538280"/>
              <a:ext cx="92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4400" y="1537920"/>
              <a:ext cx="655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301A-CF9D-4DF2-A467-D0A4D3D6DAF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2514600" y="1676160"/>
            <a:ext cx="4495680" cy="106668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marL="363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hapter </a:t>
            </a:r>
            <a:r>
              <a:rPr b="0" lang="en-US" sz="7100" spc="-1" strike="noStrike">
                <a:solidFill>
                  <a:srgbClr val="ffffff"/>
                </a:solidFill>
                <a:latin typeface="Corbel"/>
              </a:rPr>
              <a:t>14</a:t>
            </a:r>
            <a:endParaRPr b="0" lang="en-US" sz="7100" spc="-1" strike="noStrike">
              <a:solidFill>
                <a:srgbClr val="ffffff"/>
              </a:solidFill>
              <a:latin typeface="Corbel"/>
            </a:endParaRPr>
          </a:p>
        </p:txBody>
      </p:sp>
      <p:graphicFrame>
        <p:nvGraphicFramePr>
          <p:cNvPr id="369" name="Object 2"/>
          <p:cNvGraphicFramePr/>
          <p:nvPr/>
        </p:nvGraphicFramePr>
        <p:xfrm>
          <a:off x="914400" y="1295280"/>
          <a:ext cx="248760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95280"/>
                    <a:ext cx="24876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Rectangle 8"/>
          <p:cNvSpPr/>
          <p:nvPr/>
        </p:nvSpPr>
        <p:spPr>
          <a:xfrm>
            <a:off x="685800" y="36576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Profit Maximization: Equilibrium of the Fir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3" descr=""/>
          <p:cNvPicPr/>
          <p:nvPr/>
        </p:nvPicPr>
        <p:blipFill>
          <a:blip r:embed="rId1"/>
          <a:stretch/>
        </p:blipFill>
        <p:spPr>
          <a:xfrm>
            <a:off x="1600200" y="604800"/>
            <a:ext cx="6172200" cy="625320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3"/>
          <p:cNvSpPr/>
          <p:nvPr/>
        </p:nvSpPr>
        <p:spPr>
          <a:xfrm>
            <a:off x="2133720" y="153000"/>
            <a:ext cx="476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ofit Maximization Under Monopo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"/>
          <p:cNvSpPr/>
          <p:nvPr/>
        </p:nvSpPr>
        <p:spPr>
          <a:xfrm>
            <a:off x="457200" y="1295280"/>
            <a:ext cx="8229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FER TEXT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457200" y="1987920"/>
            <a:ext cx="784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.1.  COMPUTER EXERCISE ON PROFIT MAXIMIZATION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LINEAR AND NON- LINEAR RELATIONSHIP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.2.  COMPUTER EXERCISE ON PROFIT MAXIMIZATION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NON-LINEAR RELATION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"/>
          <p:cNvSpPr/>
          <p:nvPr/>
        </p:nvSpPr>
        <p:spPr>
          <a:xfrm>
            <a:off x="2895480" y="307512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 OF CHAPTER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609480" y="1385640"/>
            <a:ext cx="8001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n economics, profit maximization is the process by which a firm determines the price and output level that returns the greatest profit. The firm is in equilibrium when it produces the output that maximizes  its profits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), defined as the difference between total cost and total revenu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t,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) =TR – T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several approaches to this problem. Under the situation of linear revenue and cost functions, the profit maximizing output is indeterminate. But in a situation of non-linear revenue and cost functions; it is possible to determine the profit maximizing outpu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3897360" cy="274320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3"/>
          <p:cNvSpPr/>
          <p:nvPr/>
        </p:nvSpPr>
        <p:spPr>
          <a:xfrm>
            <a:off x="1732680" y="533880"/>
            <a:ext cx="580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ofit Maximization Under Perfect Compet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4289400" cy="31240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3"/>
          <p:cNvSpPr/>
          <p:nvPr/>
        </p:nvSpPr>
        <p:spPr>
          <a:xfrm>
            <a:off x="1580040" y="533880"/>
            <a:ext cx="580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ofit Maximization Under Perfect Compet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4876560" cy="369252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3"/>
          <p:cNvSpPr/>
          <p:nvPr/>
        </p:nvSpPr>
        <p:spPr>
          <a:xfrm>
            <a:off x="1695240" y="533880"/>
            <a:ext cx="472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ofit Maximization Under Monopo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4953240" cy="385272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3"/>
          <p:cNvSpPr/>
          <p:nvPr/>
        </p:nvSpPr>
        <p:spPr>
          <a:xfrm>
            <a:off x="1847520" y="533880"/>
            <a:ext cx="472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ofit Maximization Under Monopo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3"/>
          <p:cNvSpPr/>
          <p:nvPr/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BB2A-C014-40D7-9E84-AF727CDA6108}" type="slidenum">
              <a:rPr b="0" lang="en-GB" sz="11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1eeff"/>
                </a:solidFill>
                <a:latin typeface="Consolas"/>
                <a:ea typeface="Times New Roman"/>
              </a:rPr>
              <a:t>Maximum Profit</a:t>
            </a:r>
            <a:r>
              <a:rPr b="0" lang="en-GB" sz="4000" spc="-1" strike="noStrike">
                <a:solidFill>
                  <a:srgbClr val="c1eeff"/>
                </a:solidFill>
                <a:latin typeface="Consolas"/>
              </a:rPr>
              <a:t>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7010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  <a:ea typeface="Times New Roman"/>
              </a:rPr>
              <a:t>For maximum profit, </a:t>
            </a:r>
            <a:r>
              <a:rPr b="0" lang="en-GB" sz="3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GB" sz="3000" spc="-1" strike="noStrike">
                <a:solidFill>
                  <a:srgbClr val="ffffff"/>
                </a:solidFill>
                <a:latin typeface="Corbel"/>
                <a:ea typeface="Times New Roman"/>
              </a:rPr>
              <a:t> = TR – TC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  <a:ea typeface="Times New Roman"/>
              </a:rPr>
              <a:t>Substitute the expressions for TR and TC in the profit function so </a:t>
            </a:r>
            <a:r>
              <a:rPr b="0" lang="en-GB" sz="3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GB" sz="3000" spc="-1" strike="noStrike">
                <a:solidFill>
                  <a:srgbClr val="ffffff"/>
                </a:solidFill>
                <a:latin typeface="Corbel"/>
                <a:ea typeface="Times New Roman"/>
              </a:rPr>
              <a:t> = f(</a:t>
            </a:r>
            <a:r>
              <a:rPr b="0" i="1" lang="en-GB" sz="3000" spc="-1" strike="noStrike">
                <a:solidFill>
                  <a:srgbClr val="ffffff"/>
                </a:solidFill>
                <a:latin typeface="Corbel"/>
                <a:ea typeface="Times New Roman"/>
              </a:rPr>
              <a:t>Q</a:t>
            </a:r>
            <a:r>
              <a:rPr b="0" lang="en-GB" sz="3000" spc="-1" strike="noStrike">
                <a:solidFill>
                  <a:srgbClr val="ffffff"/>
                </a:solidFill>
                <a:latin typeface="Corbel"/>
                <a:ea typeface="Times New Roman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  <a:ea typeface="Times New Roman"/>
              </a:rPr>
              <a:t>Differentiate the profit function with respect to output, </a:t>
            </a:r>
            <a:r>
              <a:rPr b="0" i="1" lang="en-GB" sz="3000" spc="-1" strike="noStrike">
                <a:solidFill>
                  <a:srgbClr val="ffffff"/>
                </a:solidFill>
                <a:latin typeface="Corbel"/>
                <a:ea typeface="Times New Roman"/>
              </a:rPr>
              <a:t>Q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  <a:ea typeface="Times New Roman"/>
              </a:rPr>
              <a:t>Set the derivative equal to zero and solve for </a:t>
            </a:r>
            <a:r>
              <a:rPr b="0" i="1" lang="en-GB" sz="3000" spc="-1" strike="noStrike">
                <a:solidFill>
                  <a:srgbClr val="ffffff"/>
                </a:solidFill>
                <a:latin typeface="Corbel"/>
                <a:ea typeface="Times New Roman"/>
              </a:rPr>
              <a:t>Q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rbel"/>
                <a:ea typeface="Times New Roman"/>
              </a:rPr>
              <a:t>Find the second derivative             and check that it is negative</a:t>
            </a:r>
            <a:r>
              <a:rPr b="0" lang="en-GB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Object 2"/>
              <p:cNvSpPr txBox="1"/>
              <p:nvPr/>
            </p:nvSpPr>
            <p:spPr>
              <a:xfrm>
                <a:off x="6629400" y="4648320"/>
                <a:ext cx="8730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π</m:t>
                        </m:r>
                      </m:num>
                      <m:den>
                        <m:sSup>
                          <m:e>
                            <m:r>
                              <m:t xml:space="preserve">d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935840" cy="281916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3"/>
          <p:cNvSpPr/>
          <p:nvPr/>
        </p:nvSpPr>
        <p:spPr>
          <a:xfrm>
            <a:off x="1447920" y="53388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ofit Maximization Under Perfect Compet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67453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6:33:42Z</dcterms:created>
  <dc:creator>Prasanth</dc:creator>
  <dc:description/>
  <dc:language>en-US</dc:language>
  <cp:lastModifiedBy>PC-2</cp:lastModifiedBy>
  <dcterms:modified xsi:type="dcterms:W3CDTF">2010-02-26T07:38:48Z</dcterms:modified>
  <cp:revision>109</cp:revision>
  <dc:subject/>
  <dc:title>Chapter 1</dc:title>
</cp:coreProperties>
</file>