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57B-C977-4BE0-B0F9-C3508AF7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7B5-A39B-43DF-A0FF-35FF9A6A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85FD-D47E-46E8-9347-1936790C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36FC-1722-4F5D-8234-60005EA7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0CCC-BA97-4FEC-8E11-A5CE421D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BC30-1F51-41EC-8E59-892740DE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C93B-8F5B-49D8-9EBB-CD057BCD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B880-A2C6-474C-85BC-BC0C95AD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1AC9-2234-49FF-A40D-8AE911F0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DD96-F0E2-40CC-8E62-78ECE586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AA76-24D5-4C3C-AA0C-1ABA3533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40A-D648-485A-80F8-B9EBBE97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59D3-0EA9-404B-B83B-ED2DF676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B7FD-ADA9-49B6-8291-D0D0DC33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3808-B5DD-49CB-8A88-B17E2BAA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8E73-9A8C-435F-ABF3-479C4CF0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36F9-CA47-4A5F-A44C-AB6E51A4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2841B-BB28-40E7-865A-CDC72E91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C98DB-C4B8-425F-BE3A-50AAE60E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3412B-C51A-4D55-858B-1ED2D0DF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06D56-6B13-4C01-8811-3F279EC9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92F39-0AA1-4EF1-8B5B-3396114D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EE88-2751-495D-B787-2BC5A00E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B0309-34A1-46AA-8145-1FDA614D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E2B0B-8196-4946-9A07-265000FF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8CCE2-906A-4D21-B667-AEE9DC08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75D08-10BA-4571-B3AD-3EA9A515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6F258-C7DD-4FE3-8FDB-D959269F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C795D-7F63-42FB-8065-87D96653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01B28-0C43-46DF-A6A1-FC0C3577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F0FFE-E3F0-4CEA-AB3D-50EBB8F9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2725F-2873-4052-B1B7-FCBB2F95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0AB3B-B630-4F79-9674-3D7A5BE9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7EA-9DC1-4940-A55E-CE79ADFD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C6A84-1802-40CE-85F2-A010D702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CDEC6-A77B-4D68-A58C-E11884D8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5E653-32F5-4211-A4EC-D0D64C83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AD7FE-AC74-4A0C-853E-DB0FAD9A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A1823-C086-4108-A004-18072E43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2F61F-0769-491A-8581-810A09A5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1F422-827E-4A79-8C2D-E38575DA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C3241-8284-46C1-A18A-64C0EF79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3BF07-5937-4E4E-A4FA-8CB89176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12698-6259-406A-A3FB-670D5371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9D46-3197-4CD9-B610-35D63559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22839-781D-48E9-865D-98B9CD67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1B2A6-1CE6-4532-BC14-6653CDDA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89498-5E33-470A-8003-446CB0B2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8B97E-5C94-4952-854F-519271AB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73518-C397-4659-AD55-22D6FBEF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E52A9-FB5C-42A9-B4C6-13DCC542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CB3E8-06A7-4E75-8115-EE3F00FA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43423-6250-4311-A0C6-67BC760A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66193-F159-436B-8499-E0BA08BD9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585BA-5204-4238-AE87-E022F11C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8EC-D461-4BD5-AA9B-54AE6E7C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6A5A7-B896-449E-81AD-FC2652BA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29936-778B-49D1-AC74-6D69DFE1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50B04-DD39-4B57-8384-E358799E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35A7C-F50C-44D6-AED3-12690A0E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25A4B-2A57-478C-B8D5-32DF4354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98EC4-B32D-4B15-B69D-9B9F2F55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3A9BA-252E-4C83-A16D-D03CAEF0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145D7-6F89-46D8-A8F1-1A03A49D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E3E93-15FF-4B9B-BC86-AB8F8BA3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2CF16-FA93-4EB3-BF81-745E1B28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FF7A-3500-464D-9AE0-555445EC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6EA47-B964-46ED-8652-175DFDC0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0E33D-5820-4244-8036-5E447174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BB7E6-62A3-4C5B-A657-67F9CB32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DBCA6-8EB2-4E3D-A6BB-4BDEC302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EABAC-75E5-484D-8F98-742819DB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27578-D0C6-451F-96D9-4C28D865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B92A6-0565-4463-840A-B268443B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97F20-187A-4E18-A550-E60D4400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55020-0CBC-49A7-9F15-DCF4F519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F35F7-ED05-4639-8B5A-704969F5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C6C-A8DA-4708-9A12-5FA1F42B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CD233-101A-4DAB-A45A-68030CF8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585BA-4CE7-415E-80EF-955AFB1E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4C831-0F01-403A-906B-EB99A907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12E59-8DBD-43E4-BF22-D55E6922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FC73C-D4AE-496D-9B15-C95813A0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0D2-4F5D-4136-9ADA-23ABC5C1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1CB8-F90F-439F-913B-4DD771CCE31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9FE3-CED6-4AF4-BA10-B6C4B623390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AE10-1F75-44AA-BFCF-CEE454FABBC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6AF9-86BA-4793-805D-D13FFB8ADEE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2381-6B90-48C5-B023-824132C8C39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09E6-4DAE-424F-BC5F-AABB8263C45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38B7-2ADD-457A-974A-CCEE2688A3C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2514600" y="16761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marL="363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apter </a:t>
            </a:r>
            <a:r>
              <a:rPr b="0" lang="en-US" sz="7100" spc="-1" strike="noStrike">
                <a:solidFill>
                  <a:srgbClr val="ffffff"/>
                </a:solidFill>
                <a:latin typeface="Corbel"/>
              </a:rPr>
              <a:t>12</a:t>
            </a:r>
            <a:endParaRPr b="0" lang="en-US" sz="71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369" name="Object 2"/>
          <p:cNvGraphicFramePr/>
          <p:nvPr/>
        </p:nvGraphicFramePr>
        <p:xfrm>
          <a:off x="914400" y="1295280"/>
          <a:ext cx="248760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24876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Rectangle 8"/>
          <p:cNvSpPr/>
          <p:nvPr/>
        </p:nvSpPr>
        <p:spPr>
          <a:xfrm>
            <a:off x="685800" y="3657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ost and Revenue Functio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001000" cy="23018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533520" y="3505320"/>
            <a:ext cx="8001000" cy="255096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8"/>
          <p:cNvSpPr/>
          <p:nvPr/>
        </p:nvSpPr>
        <p:spPr>
          <a:xfrm>
            <a:off x="609480" y="2286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evenue Functio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01000" cy="2139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533520" y="3581280"/>
            <a:ext cx="8001000" cy="23940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8"/>
          <p:cNvSpPr/>
          <p:nvPr/>
        </p:nvSpPr>
        <p:spPr>
          <a:xfrm>
            <a:off x="914400" y="30492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ost Functio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010640" cy="1143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7010640" cy="230184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3"/>
          <p:cNvSpPr/>
          <p:nvPr/>
        </p:nvSpPr>
        <p:spPr>
          <a:xfrm>
            <a:off x="1600200" y="6858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7d6ff"/>
                </a:solidFill>
                <a:latin typeface="Arial"/>
              </a:rPr>
              <a:t>Maximum Total Reven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"/>
          <p:cNvSpPr/>
          <p:nvPr/>
        </p:nvSpPr>
        <p:spPr>
          <a:xfrm>
            <a:off x="1600200" y="6858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7d6ff"/>
                </a:solidFill>
                <a:latin typeface="Arial"/>
              </a:rPr>
              <a:t>Minimum Total C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1976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1629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542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380880" y="205740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EFER TEXT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1. COMPUTER EXERCISE ON QUADRATIC COST CURVE ESTIMATION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.2. COMPUTER EXERCISE ON CUBIC COST CURVE ESTIMATION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"/>
          <p:cNvSpPr/>
          <p:nvPr/>
        </p:nvSpPr>
        <p:spPr>
          <a:xfrm>
            <a:off x="2895480" y="307512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CHAPTER 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6:33:42Z</dcterms:created>
  <dc:creator>Prasanth</dc:creator>
  <dc:description/>
  <dc:language>en-US</dc:language>
  <cp:lastModifiedBy>PC-2</cp:lastModifiedBy>
  <dcterms:modified xsi:type="dcterms:W3CDTF">2010-02-26T07:38:27Z</dcterms:modified>
  <cp:revision>105</cp:revision>
  <dc:subject/>
  <dc:title>Chapter 1</dc:title>
</cp:coreProperties>
</file>