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CD9-A464-4FBE-B31F-A616DC37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B1B-17EF-4850-8071-4D1D2066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598-DFCA-4F22-85B7-1F96303E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44E-15A9-4C14-8CCF-220466D4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21DE-3876-4AB5-BAB0-45ACCDCC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6C1F-9B67-46F0-9932-7408D836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EE10-01B7-4B30-9855-501CA542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33E-CAC4-47CD-B50D-870F0336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5FAE-2C93-4DEA-BD37-DBBA6FA1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5066-0F1D-4B8A-A8E7-C4A6A7F9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3024-78C1-4F2B-B430-DC07F53F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DD2-74DD-4BB4-871B-0E07E9C3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97B3-9222-4DE9-B973-1AF74477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C715-1610-4D20-9E4A-BD40E20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6D8C-4935-4CB7-B7F0-9B2C62D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AA2B-E17A-47E6-9C20-D68C9FAA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3CFD-EE46-4C8A-9FF6-5E2C666B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5D4D6-4A9E-4B8E-9A75-B8639671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4D5C2-1CD0-41D6-A76B-5FAF57E3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6ADBE-6453-4857-8EA3-9C3ACB80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2A85-9E97-48DA-A08E-D48E70A1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A6D2B-BABE-46A2-90BF-2C55892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D59-A853-4613-B767-910B83E7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A2719-84C9-4657-A357-EF0D1BE9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4449-EE68-4A4C-B9A4-33D48242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9B49-A2BE-4584-895B-C324277A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0132A-DF6E-4654-95B7-286BAFC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88660-AB71-4E15-8E04-DDBA7D27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F58BB-4828-4B85-91E5-EEAD6AEE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422C-6350-4F7A-BDCE-B4546FC4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4EB9-80D8-4D2B-A110-D60862EB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0CEAE-904D-4395-901E-0E52012F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96045-9B21-4CA1-89B0-1A201ED9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A6D-70C1-4F0A-893A-0DE1D1F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FA56A-C2B7-45DA-95A6-360FEDD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DBBE0-0171-425B-AF10-74434DE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E7B43-219D-4A2C-9035-6CC5CC34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8BB8F-E884-4551-AF11-9510950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8F2F-C33C-4563-884A-ABC5C96A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931B5-3516-4D93-B544-1DA9F42E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CD86D-88BB-4984-99B2-5167489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A9B85-A17B-4F52-A943-F7B8D78C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B2A9-4CC3-4B13-8D2A-1B2AC79C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44206-91F6-4181-B2E1-E6DACFFE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B38-CA48-44B3-B577-E0AF5950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CADA0-8D6E-4BEE-A457-47BAD588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00244-D67F-4106-91F5-551B7F37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6E20-5805-40A1-ACEE-E057D87D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7835-EE98-45AA-B82D-1F079141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D486-CE1E-46E5-A993-04DC49A2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B6B17-9A9E-4772-BB85-6203A106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42DE2-0917-4D9A-B661-5ED14B1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8DBD-86A5-48C9-85A8-01B69AD0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E20EC-E265-4262-BFBF-FA989E2E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1A831-881E-45A5-9623-37A4A09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934-EAAA-44EC-BC37-3E04BCFB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C4F0-218E-4CFD-9941-A1BE552B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6E0E8-EF17-477C-9D86-724ED621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ADE67-DBCC-4568-B66D-B30AF63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F286-0D96-42DD-AAEC-6DC043AF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1860-34C7-445E-9F66-454B555E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7116-A4A5-41B3-9330-4550CD56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C358B-3277-4DB1-B793-7B1A5EE8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9B147-CBAA-49E2-8461-93654A1E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C245A-0984-4C39-92C3-2E87277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9CCE-509D-417A-BDB8-D7787E0E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43EC-7A53-455F-A47F-45E6B23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85437-13D8-47A6-A529-C75FE68E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AFA16-B5EC-4F3E-B566-C896FC57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D00FD-AF78-4E62-AFC5-EF50FA38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1E40B-61FF-4955-B438-41093454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D972-9AE7-4B00-B056-110B1490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803C-01EF-4902-868E-970BBDC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DA193-D005-4ACC-A056-9ADA8C07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44FDA-3D5C-467B-83E1-BEADDECB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1D193-9179-4705-8F01-35DFC980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BA06B-45DF-459A-B300-8E0504A8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5DE-C139-4667-B2BD-36F84DE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3BBE5-40DD-4222-AE97-FF1C9577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B9DA4-88A3-4410-8DD5-6DC56A1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BD31-D338-498F-9085-E1F6BEE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99AF7-1298-4AF9-A4AF-D974D68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B674-2FC6-44B7-96AD-56796AF9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BF7-37EF-4E4B-8923-695C7A1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946-217C-42E3-968C-EDFB80B9E89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90E-1C5E-4D21-BDC5-DA845FC6C72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0D73-1FBD-4AE7-8384-FBA0744F0B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F5B5-0A04-4309-8702-9A471F055AA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AD1-2465-4AD2-8CEB-3D9EC93838A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3CC7-C3F7-46FD-B615-8B0E6EC054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695-6F8F-4558-A803-0EBE89F3681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51460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pter </a:t>
            </a:r>
            <a:r>
              <a:rPr b="0" lang="en-US" sz="7100" spc="-1" strike="noStrike">
                <a:solidFill>
                  <a:srgbClr val="ffffff"/>
                </a:solidFill>
                <a:latin typeface="Corbel"/>
              </a:rPr>
              <a:t>13</a:t>
            </a:r>
            <a:endParaRPr b="0" lang="en-US" sz="71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914400" y="1295280"/>
          <a:ext cx="2487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487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580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Break-even Analys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"/>
          <p:cNvSpPr/>
          <p:nvPr/>
        </p:nvSpPr>
        <p:spPr>
          <a:xfrm>
            <a:off x="609480" y="924840"/>
            <a:ext cx="7925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EAK-EVE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 analytical tool frequently employed by managerial economists is the break – even analysis. The profit and break-even analysis is useful for determining the price and output combination under the objective of profit maximization. The break-even point is defined as the point at which total revenue is equal to total co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457200" y="199296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break-even chart is a graphical technique used to indicate the short-run relation of total cost and total revenue to rate of output. It involves the study of revenues and costs in relation to the volume of output. The break-even point shows where profits start, the area of loss and the margin of safety. It, therefore, also indicates optimum level of op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3291120" y="106668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EAK-EVEN 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858000" cy="4616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762120" y="511056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is graphic model may be expressed in algebraic form as well. By definition, Profit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equals the difference between total revenue (TR) and total co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TC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                                   Profit = TR-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914400" y="630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r Measuring profit, consider the following algebraic relationshi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Revenue,(PQ) = Price * quantity(Note: In a perfectly competitive market , the price is the same for each unit is sol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                       = the difference between total revenue (TR) a nd total cost ( T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 TR-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Cost (TC)        = Fixed Cost +Variable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 Fixed Cost+ (Average Variable Cost)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fit per unit           = AR – A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eak-even output occurs when AR=A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venue maximization occurs when MR = zero. Profit maximisation occurs at the output where MR = MC. A firm adds to profits if marginal revenue from selling an extra unit is greater than the marginal cost of produ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380880" y="778320"/>
            <a:ext cx="830592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FER TEXT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3.1. COMPUTER EXERCISE ON SCATTER PLOT FOR BREAK-EVEN POINT- LINEAR CAS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3.2. COMPUTER EXERCISE ON DETERMINING THE BREAK-EVEN POINT- LINEAR C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3.3. COMPUTER EXERCISE ON BREAK-EVEN QUANTITY USING LINEAR AND NON- LINE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LATIONSHIP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13.4. COMPUTER EXERCISE ON BREAK-EVEN ANALYSIS USING NONLINEAR RELATIONSHIP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2895480" y="30751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CHAPTER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8:39Z</dcterms:modified>
  <cp:revision>103</cp:revision>
  <dc:subject/>
  <dc:title>Chapter 1</dc:title>
</cp:coreProperties>
</file>