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A51F4-6192-4399-B5AC-3F236ECCF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AAA35-93C9-4C26-980B-CCB5ABEAF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45E7C-BA8C-402B-B511-38EFB932A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0D12E-A857-457F-A479-3B02DD3EC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5D37E-E2BB-4E63-95AE-E524E8A18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37833-69F4-47BD-A86F-4722D6EE7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B9314-9AEF-44DF-A02C-1C1B515E6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AC524-A897-4630-AD3A-5849B9564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37C53-285D-40A3-B054-C0F4CAB37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64600-59EC-4F10-90D9-115D88767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802EE-B60D-4910-85F4-6D0612691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98145-F4D5-424C-A9B8-8CB4E00B9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C5BBD-4BAD-4626-AE88-587B72D16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CED4E-19F8-4924-A350-13C8CB67F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8B02F-1825-4126-AE3E-976DEBA53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E1EFF-2D5F-4A7E-B688-F560A31B0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69A67-C082-44D5-900D-7DE4EC84B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35FC36-17FB-4ECE-9A5A-1E3FE60C87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74EC0-581D-4E7C-9FB7-0C2C3E73DF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586FF8-FE73-40F0-AF2E-53EDDEBFEA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D67D46-7617-4E02-992F-74D93EC804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B01049-BFB7-4A60-9DC2-43CCC1132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C4564-3C00-4CEE-AAC5-7CC4B1A56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EB4DBF-B318-44E3-A282-D1F79F2DD1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3E9CA-CF79-441A-9745-CE19B1877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A507A-E894-4B95-9FDB-693A4C400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EC6388-2600-4C75-BE56-DC0CD806E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35964-7F85-4464-888F-1A2761EFE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9F74EA-4FF4-4E7B-8571-148660ADFE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06DBC1-7B56-4E27-BB30-D1E474EB3A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156B49-5C19-4EB6-A852-257C25AF73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67F252-5DB3-4752-A59A-A79367500C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A2690E-9A76-432E-969E-2298E06FE6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6F90F-DB25-4ADC-AE66-4144D52B4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67D51D-F54E-4743-8062-02CD64ECF0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0EC6BD-43F6-43AA-ADD6-FFBC4CD225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B4382A-548D-4E8C-ACE5-0BF55DD565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A7345-0532-4963-B9BE-34546EEA75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93F7AA-906C-493F-9A6F-51DE364D9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44DDCE-9848-453C-9330-8C1AD1C26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9825D-D19F-4547-8798-84350708A8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B37AA4-FDC5-4906-B7E0-78A9AFC493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B845F2-6B56-4E35-816F-5F03EC986E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E861BA-DA96-4B34-8933-14A70863D0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A6703-1E54-4AE9-84DE-3CB593A4E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F2E43A-C476-4D02-97FC-101DFF20DA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3C574E-D1AF-42CA-B66B-84B5C343DE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7F654E-363F-4F81-B7A5-DB87864898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06C2A2-09BE-40CC-8BBB-A277793E62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247210-6027-4DF6-9744-2F6BA4E3F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68A39B-FB6B-4A2B-95D0-91A3317F9F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69992E-1220-4669-A202-3E5FCC296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76EAFE-179C-4F01-BF49-C9424401C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953335-94ED-4D47-BD57-29C8C47B6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66F04B-D845-4C83-8E00-A822210759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1F80A-3203-4924-92BB-FAB4570F6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20B2BE-44AB-4D5E-BC80-F6D0014BB7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5386F-3B9C-4D11-8434-F217C18E5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64825-AFC1-4484-8A2C-15CC901F3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6BC11-490E-4C61-9D17-0E4EF78AC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6D3E-F2B0-4B30-90F9-A141A5BA8BC6}"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E4EF-7005-4856-91F5-A4DF2F3B953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980D-FFAA-40E3-AD0D-40ED993698C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4F09-89BD-4088-9394-3BC13814A323}"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283D-F421-4E87-AB95-9A7C49E37FFF}"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514600" y="1676160"/>
            <a:ext cx="4495680" cy="1066680"/>
          </a:xfrm>
          <a:prstGeom prst="rect">
            <a:avLst/>
          </a:prstGeom>
          <a:noFill/>
          <a:ln w="0">
            <a:noFill/>
          </a:ln>
        </p:spPr>
        <p:txBody>
          <a:bodyPr lIns="182880" tIns="0" anchor="t">
            <a:noAutofit/>
          </a:bodyPr>
          <a:p>
            <a:pPr marL="363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000000"/>
                </a:solidFill>
                <a:latin typeface="Verdana"/>
              </a:rPr>
              <a:t>Chapter </a:t>
            </a:r>
            <a:r>
              <a:rPr b="0" lang="en-US" sz="8300" spc="-1" strike="noStrike">
                <a:solidFill>
                  <a:srgbClr val="000000"/>
                </a:solidFill>
                <a:latin typeface="Verdana"/>
              </a:rPr>
              <a:t>1</a:t>
            </a:r>
            <a:endParaRPr b="0" lang="en-US" sz="8300" spc="-1" strike="noStrike">
              <a:solidFill>
                <a:srgbClr val="000000"/>
              </a:solidFill>
              <a:latin typeface="Verdana"/>
            </a:endParaRPr>
          </a:p>
        </p:txBody>
      </p:sp>
      <p:graphicFrame>
        <p:nvGraphicFramePr>
          <p:cNvPr id="221" name="Object 2"/>
          <p:cNvGraphicFramePr/>
          <p:nvPr/>
        </p:nvGraphicFramePr>
        <p:xfrm>
          <a:off x="914400" y="1295280"/>
          <a:ext cx="2487600" cy="1905120"/>
        </p:xfrm>
        <a:graphic>
          <a:graphicData uri="http://schemas.openxmlformats.org/presentationml/2006/ole">
            <p:oleObj r:id="rId1" spid="">
              <p:embed/>
              <p:pic>
                <p:nvPicPr>
                  <p:cNvPr id="222" name="Object 2" descr=""/>
                  <p:cNvPicPr/>
                  <p:nvPr/>
                </p:nvPicPr>
                <p:blipFill>
                  <a:blip r:embed="rId2"/>
                  <a:stretch/>
                </p:blipFill>
                <p:spPr>
                  <a:xfrm>
                    <a:off x="914400" y="1295280"/>
                    <a:ext cx="2487600" cy="1905120"/>
                  </a:xfrm>
                  <a:prstGeom prst="rect">
                    <a:avLst/>
                  </a:prstGeom>
                  <a:ln w="0">
                    <a:noFill/>
                  </a:ln>
                </p:spPr>
              </p:pic>
            </p:oleObj>
          </a:graphicData>
        </a:graphic>
      </p:graphicFrame>
      <p:sp>
        <p:nvSpPr>
          <p:cNvPr id="223" name="Rectangle 7"/>
          <p:cNvSpPr/>
          <p:nvPr/>
        </p:nvSpPr>
        <p:spPr>
          <a:xfrm>
            <a:off x="361800" y="3657600"/>
            <a:ext cx="83822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Introduction</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 </a:t>
            </a:r>
            <a:r>
              <a:rPr b="1" lang="en-US" sz="3600" spc="-1" strike="noStrike">
                <a:solidFill>
                  <a:srgbClr val="000000"/>
                </a:solidFill>
                <a:latin typeface="Arial"/>
                <a:ea typeface="Times New Roman"/>
              </a:rPr>
              <a:t>to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Times New Roman"/>
              </a:rPr>
              <a:t>Computer Applications in Economics </a:t>
            </a:r>
            <a:endParaRPr b="0" lang="en-US" sz="3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20">
                                            <p:txEl>
                                              <p:pRg st="0" end="0"/>
                                            </p:txEl>
                                          </p:spTgt>
                                        </p:tgtEl>
                                        <p:attrNameLst>
                                          <p:attrName>style.visibility</p:attrName>
                                        </p:attrNameLst>
                                      </p:cBhvr>
                                      <p:to>
                                        <p:strVal val="visible"/>
                                      </p:to>
                                    </p:set>
                                    <p:animEffect filter="box(in)" transition="in">
                                      <p:cBhvr additive="repl">
                                        <p:cTn id="7" dur="500"/>
                                        <p:tgtEl>
                                          <p:spTgt spid="22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12" dur="500"/>
                                        <p:tgtEl>
                                          <p:spTgt spid="223">
                                            <p:txEl>
                                              <p:pRg st="0" end="0"/>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15" dur="500"/>
                                        <p:tgtEl>
                                          <p:spTgt spid="223">
                                            <p:txEl>
                                              <p:pRg st="1" end="1"/>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18" dur="500"/>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4" name="Rectangle 1"/>
          <p:cNvSpPr/>
          <p:nvPr/>
        </p:nvSpPr>
        <p:spPr>
          <a:xfrm>
            <a:off x="457200" y="685800"/>
            <a:ext cx="83818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Windows and Windows for workgroups operating systems provided a graphical environment, networking and performance enhancements to the MS – DOS operating system. The different versions of Windows operating system can be seen below:</a:t>
            </a:r>
            <a:endParaRPr b="0" lang="en-US" sz="2000" spc="-1" strike="noStrike">
              <a:solidFill>
                <a:srgbClr val="000000"/>
              </a:solidFill>
              <a:latin typeface="Arial"/>
            </a:endParaRPr>
          </a:p>
        </p:txBody>
      </p:sp>
      <p:pic>
        <p:nvPicPr>
          <p:cNvPr id="245" name="Picture 2" descr="History of Windows"/>
          <p:cNvPicPr/>
          <p:nvPr/>
        </p:nvPicPr>
        <p:blipFill>
          <a:blip r:embed="rId1"/>
          <a:stretch/>
        </p:blipFill>
        <p:spPr>
          <a:xfrm>
            <a:off x="609480" y="2286000"/>
            <a:ext cx="7942320" cy="24382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6" name="Rectangle 1"/>
          <p:cNvSpPr/>
          <p:nvPr/>
        </p:nvSpPr>
        <p:spPr>
          <a:xfrm>
            <a:off x="1371600" y="1317960"/>
            <a:ext cx="6629400" cy="48790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PPLICATION OF COMPUTERS </a:t>
            </a: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a Analysi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ounting, Investment, inventory control ,etc</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vestment analysi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undamental Analysis Package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echnical Analysis Package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ortfolio Management Package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ersonal Financial Management,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ather forecasting.</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ar energy research.</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craft design.</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otive design.</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ine banking, etc..</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7" name="Rectangle 2"/>
          <p:cNvSpPr/>
          <p:nvPr/>
        </p:nvSpPr>
        <p:spPr>
          <a:xfrm>
            <a:off x="1600200" y="858600"/>
            <a:ext cx="594360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atistical / Econometric Software Package Inform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S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MDE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IEW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GIV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CROF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STICA</a:t>
            </a:r>
            <a:endParaRPr b="0" lang="en-US" sz="20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Rectangle 1"/>
          <p:cNvSpPr/>
          <p:nvPr/>
        </p:nvSpPr>
        <p:spPr>
          <a:xfrm>
            <a:off x="3124080" y="3244680"/>
            <a:ext cx="3353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OF CHAPTER </a:t>
            </a:r>
            <a:r>
              <a:rPr b="1" lang="en-US" sz="4000" spc="-1" strike="noStrike">
                <a:solidFill>
                  <a:srgbClr val="000000"/>
                </a:solidFill>
                <a:latin typeface="Arial"/>
              </a:rPr>
              <a:t>1</a:t>
            </a:r>
            <a:endParaRPr b="0" lang="en-US" sz="4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Rectangle 2"/>
          <p:cNvSpPr/>
          <p:nvPr/>
        </p:nvSpPr>
        <p:spPr>
          <a:xfrm>
            <a:off x="380880" y="1387800"/>
            <a:ext cx="8382240" cy="3599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Computer is an electronic device that can receive a set of instructions, or program, and then carry out this program by performing calculations on numerical data or by manipulating other forms of information</a:t>
            </a:r>
            <a:endParaRPr b="0" lang="en-US" sz="2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principal characteristics of computer  are:</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45720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t responds to a specific set of instructions in a well-defined manner.</a:t>
            </a:r>
            <a:endParaRPr b="0" lang="en-US" sz="1800" spc="-1" strike="noStrike">
              <a:solidFill>
                <a:srgbClr val="000000"/>
              </a:solidFill>
              <a:latin typeface="Arial"/>
            </a:endParaRPr>
          </a:p>
          <a:p>
            <a:pPr indent="45720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t can execute a prerecorded list of instructions (a program).</a:t>
            </a:r>
            <a:endParaRPr b="0" lang="en-US" sz="1800" spc="-1" strike="noStrike">
              <a:solidFill>
                <a:srgbClr val="000000"/>
              </a:solidFill>
              <a:latin typeface="Arial"/>
            </a:endParaRPr>
          </a:p>
          <a:p>
            <a:pPr indent="45720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t can quickly store and retrieve large amounts of data.</a:t>
            </a:r>
            <a:endParaRPr b="0" lang="en-US" sz="1800" spc="-1" strike="noStrike">
              <a:solidFill>
                <a:srgbClr val="000000"/>
              </a:solidFill>
              <a:latin typeface="Arial"/>
            </a:endParaRPr>
          </a:p>
        </p:txBody>
      </p:sp>
      <p:sp>
        <p:nvSpPr>
          <p:cNvPr id="225" name="Rectangle 3"/>
          <p:cNvSpPr/>
          <p:nvPr/>
        </p:nvSpPr>
        <p:spPr>
          <a:xfrm>
            <a:off x="2912400" y="685800"/>
            <a:ext cx="330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 : DEFINITION</a:t>
            </a:r>
            <a:endParaRPr b="0" lang="en-US" sz="2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6" name="Rectangle 10"/>
          <p:cNvSpPr/>
          <p:nvPr/>
        </p:nvSpPr>
        <p:spPr>
          <a:xfrm>
            <a:off x="762120" y="1035000"/>
            <a:ext cx="7543800" cy="3143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JOR COMPONENTS OF A DIGITAL COMPUTER</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 their most basic form, all digital computers consist of four fundamental blocks The major components of a digital computer are: CPU (central processing unit), memory, input and output device. The input and output devices are also known as peripherals. In addition to the hardware components, many others make it possible for the basic components to work together efficiently.</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grpSp>
        <p:nvGrpSpPr>
          <p:cNvPr id="227" name="Group 1"/>
          <p:cNvGrpSpPr/>
          <p:nvPr/>
        </p:nvGrpSpPr>
        <p:grpSpPr>
          <a:xfrm>
            <a:off x="2819520" y="4191120"/>
            <a:ext cx="3886200" cy="1942920"/>
            <a:chOff x="2819520" y="4191120"/>
            <a:chExt cx="3886200" cy="1942920"/>
          </a:xfrm>
        </p:grpSpPr>
        <p:sp>
          <p:nvSpPr>
            <p:cNvPr id="228" name="AutoShape 9"/>
            <p:cNvSpPr/>
            <p:nvPr/>
          </p:nvSpPr>
          <p:spPr>
            <a:xfrm>
              <a:off x="2819520" y="4191120"/>
              <a:ext cx="3886200" cy="1942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ectangle 8"/>
            <p:cNvSpPr/>
            <p:nvPr/>
          </p:nvSpPr>
          <p:spPr>
            <a:xfrm>
              <a:off x="4305240" y="4419360"/>
              <a:ext cx="7999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PU</a:t>
              </a:r>
              <a:endParaRPr b="0" lang="en-US" sz="1200" spc="-1" strike="noStrike">
                <a:solidFill>
                  <a:srgbClr val="000000"/>
                </a:solidFill>
                <a:latin typeface="Arial"/>
              </a:endParaRPr>
            </a:p>
          </p:txBody>
        </p:sp>
        <p:sp>
          <p:nvSpPr>
            <p:cNvPr id="230" name="Rectangle 7"/>
            <p:cNvSpPr/>
            <p:nvPr/>
          </p:nvSpPr>
          <p:spPr>
            <a:xfrm>
              <a:off x="4305240" y="5676840"/>
              <a:ext cx="799920" cy="34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mory</a:t>
              </a:r>
              <a:endParaRPr b="0" lang="en-US" sz="1200" spc="-1" strike="noStrike">
                <a:solidFill>
                  <a:srgbClr val="000000"/>
                </a:solidFill>
                <a:latin typeface="Arial"/>
              </a:endParaRPr>
            </a:p>
          </p:txBody>
        </p:sp>
        <p:sp>
          <p:nvSpPr>
            <p:cNvPr id="231" name="Rectangle 6"/>
            <p:cNvSpPr/>
            <p:nvPr/>
          </p:nvSpPr>
          <p:spPr>
            <a:xfrm>
              <a:off x="2933640" y="4533840"/>
              <a:ext cx="68544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put Device</a:t>
              </a:r>
              <a:endParaRPr b="0" lang="en-US" sz="1200" spc="-1" strike="noStrike">
                <a:solidFill>
                  <a:srgbClr val="000000"/>
                </a:solidFill>
                <a:latin typeface="Arial"/>
              </a:endParaRPr>
            </a:p>
          </p:txBody>
        </p:sp>
        <p:sp>
          <p:nvSpPr>
            <p:cNvPr id="232" name="Rectangle 5"/>
            <p:cNvSpPr/>
            <p:nvPr/>
          </p:nvSpPr>
          <p:spPr>
            <a:xfrm>
              <a:off x="5791320" y="4533840"/>
              <a:ext cx="68544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utput Device</a:t>
              </a:r>
              <a:endParaRPr b="0" lang="en-US" sz="1200" spc="-1" strike="noStrike">
                <a:solidFill>
                  <a:srgbClr val="000000"/>
                </a:solidFill>
                <a:latin typeface="Arial"/>
              </a:endParaRPr>
            </a:p>
          </p:txBody>
        </p:sp>
        <p:sp>
          <p:nvSpPr>
            <p:cNvPr id="233" name="AutoShape 4"/>
            <p:cNvSpPr/>
            <p:nvPr/>
          </p:nvSpPr>
          <p:spPr>
            <a:xfrm>
              <a:off x="3733920" y="4762440"/>
              <a:ext cx="457200" cy="228600"/>
            </a:xfrm>
            <a:prstGeom prst="right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AutoShape 3"/>
            <p:cNvSpPr/>
            <p:nvPr/>
          </p:nvSpPr>
          <p:spPr>
            <a:xfrm>
              <a:off x="5219640" y="4762440"/>
              <a:ext cx="457200" cy="228600"/>
            </a:xfrm>
            <a:prstGeom prst="rightArrow">
              <a:avLst>
                <a:gd name="adj1" fmla="val 50000"/>
                <a:gd name="adj2"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2"/>
            <p:cNvSpPr/>
            <p:nvPr/>
          </p:nvSpPr>
          <p:spPr>
            <a:xfrm>
              <a:off x="4533840" y="5334120"/>
              <a:ext cx="228600" cy="342720"/>
            </a:xfrm>
            <a:prstGeom prst="upDownArrow">
              <a:avLst>
                <a:gd name="adj1" fmla="val 50000"/>
                <a:gd name="adj2" fmla="val 298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Rectangle 15"/>
          <p:cNvSpPr/>
          <p:nvPr/>
        </p:nvSpPr>
        <p:spPr>
          <a:xfrm>
            <a:off x="4481640" y="21862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7" name="Rectangle 1"/>
          <p:cNvSpPr/>
          <p:nvPr/>
        </p:nvSpPr>
        <p:spPr>
          <a:xfrm>
            <a:off x="609480" y="480960"/>
            <a:ext cx="8001000" cy="5338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NFORMATION STORA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storage can be classified as being either permanent, semi-permanent, or temporary.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formation can also be classified as having been stored to or retrieved from primary or secondary memory.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imary memory, also known as main memory, is the computer’s main random access memory (RAM). All information that is processed by the computer must first pass through the main memory.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econdary memory is any form of memory other than the main computer memory, including the hard disk, CD-ROMs , floppy disks, , and magnetic tape.</a:t>
            </a:r>
            <a:endParaRPr b="0" lang="en-US" sz="2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8" name="Rectangle 1"/>
          <p:cNvSpPr/>
          <p:nvPr/>
        </p:nvSpPr>
        <p:spPr>
          <a:xfrm>
            <a:off x="380880" y="329400"/>
            <a:ext cx="8458200" cy="5520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trieval System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D-ROM data can only be made available through an appropriate retrieval system of which many well-known implementations exis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A retrieval system takes the form of a programme distributed on the disc itself and is the most often installed to hard disk for the benefit of increased speed of operation. As one would expect, retrieval systems are specific to applications, where the underlying design features vary considerably. At the simplest level, negotiating a telephone directory on CD-ROM merely requires the entry of simple search criteria. Wildcards or Boolean logic may also play a role. Such systems are termed target systems, and are useful for database applications</a:t>
            </a: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9" name="Rectangle 1"/>
          <p:cNvSpPr/>
          <p:nvPr/>
        </p:nvSpPr>
        <p:spPr>
          <a:xfrm>
            <a:off x="533520" y="690840"/>
            <a:ext cx="8153280" cy="43300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YPES OF COMPUTE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	</a:t>
            </a:r>
            <a:r>
              <a:rPr b="1" lang="en-US" sz="2000" spc="-1" strike="noStrike">
                <a:solidFill>
                  <a:srgbClr val="000000"/>
                </a:solidFill>
                <a:latin typeface="Arial"/>
                <a:ea typeface="Times New Roman"/>
              </a:rPr>
              <a:t>Computers come in many forms and sizes, with the capacity to perform a variety of applications and designed for use by either a single individual or by a large number of u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omputers are generally classified on the basis of operational principle and can all be broadly classified 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nalog and Digital Computer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ybrid computer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pecial – purpose and general purpose comput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0" name="Rectangle 2"/>
          <p:cNvSpPr/>
          <p:nvPr/>
        </p:nvSpPr>
        <p:spPr>
          <a:xfrm>
            <a:off x="685800" y="604800"/>
            <a:ext cx="7924680" cy="23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mputers  are also classified  based on their performance and capacity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endParaRPr b="0" lang="en-US" sz="11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per Comput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inframe Comput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ni Comput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icro Comput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Picture 1" descr="Types of Computers"/>
          <p:cNvPicPr/>
          <p:nvPr/>
        </p:nvPicPr>
        <p:blipFill>
          <a:blip r:embed="rId1"/>
          <a:stretch/>
        </p:blipFill>
        <p:spPr>
          <a:xfrm>
            <a:off x="990720" y="2895480"/>
            <a:ext cx="7370640" cy="25146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2" name="Rectangle 1"/>
          <p:cNvSpPr/>
          <p:nvPr/>
        </p:nvSpPr>
        <p:spPr>
          <a:xfrm>
            <a:off x="304920" y="334080"/>
            <a:ext cx="8534160" cy="6019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YPES OF NETWOR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Networks may be classified according to a wide variety of characteristics.There are several types of networks in use today. Below is a list of the most common types of computer networks in order of scal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puter networks may be Classified according to the scale or extent of reach of the network.</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Personal area network (PA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Local area network (LA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Campus area network (CA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Metropolitan area network (MAN), or Wide area networ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W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3" name="Rectangle 1"/>
          <p:cNvSpPr/>
          <p:nvPr/>
        </p:nvSpPr>
        <p:spPr>
          <a:xfrm>
            <a:off x="304920" y="707040"/>
            <a:ext cx="8458200" cy="4590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OPERATING SYSTEM</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1" lang="en-US" sz="2000" spc="-1" strike="noStrike">
                <a:solidFill>
                  <a:srgbClr val="000000"/>
                </a:solidFill>
                <a:latin typeface="Arial"/>
                <a:ea typeface="Times New Roman"/>
              </a:rPr>
              <a:t>Operating system is the link between the hardware and software. The term </a:t>
            </a:r>
            <a:r>
              <a:rPr b="1" i="1" lang="en-US" sz="2000" spc="-1" strike="noStrike">
                <a:solidFill>
                  <a:srgbClr val="000000"/>
                </a:solidFill>
                <a:latin typeface="Arial"/>
                <a:ea typeface="Times New Roman"/>
              </a:rPr>
              <a:t>DOS</a:t>
            </a:r>
            <a:r>
              <a:rPr b="1" lang="en-US" sz="2000" spc="-1" strike="noStrike">
                <a:solidFill>
                  <a:srgbClr val="000000"/>
                </a:solidFill>
                <a:latin typeface="Arial"/>
                <a:ea typeface="Times New Roman"/>
              </a:rPr>
              <a:t> can refer to any </a:t>
            </a:r>
            <a:r>
              <a:rPr b="1" lang="en-US" sz="2000" spc="-1" strike="noStrike" u="sng">
                <a:solidFill>
                  <a:srgbClr val="000000"/>
                </a:solidFill>
                <a:uFillTx/>
                <a:latin typeface="Arial"/>
                <a:ea typeface="Times New Roman"/>
              </a:rPr>
              <a:t>operating system</a:t>
            </a:r>
            <a:r>
              <a:rPr b="1" lang="en-US" sz="2000" spc="-1" strike="noStrike">
                <a:solidFill>
                  <a:srgbClr val="000000"/>
                </a:solidFill>
                <a:latin typeface="Arial"/>
                <a:ea typeface="Times New Roman"/>
              </a:rPr>
              <a:t>, but it is most often used as shorthand for </a:t>
            </a:r>
            <a:r>
              <a:rPr b="1" i="1" lang="en-US" sz="2000" spc="-1" strike="noStrike" u="sng">
                <a:solidFill>
                  <a:srgbClr val="000000"/>
                </a:solidFill>
                <a:uFillTx/>
                <a:latin typeface="Arial"/>
                <a:ea typeface="Times New Roman"/>
              </a:rPr>
              <a:t>MS-DOS (Microsoft disk operating system)</a:t>
            </a:r>
            <a:r>
              <a:rPr b="1" lang="en-US" sz="2000" spc="-1" strike="noStrike">
                <a:solidFill>
                  <a:srgbClr val="000000"/>
                </a:solidFill>
                <a:latin typeface="Arial"/>
                <a:ea typeface="Times New Roman"/>
              </a:rPr>
              <a:t>. It was a command-line interface, meaning the user had to type in commands to use i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S-DOS is an operating system designed for the IBM PC by Microsoft in 1981. MS DOS was released on IBM PCs when they came out in the 1980s and continued in popular use until the mid 1990s, by which time the first of the Windows operating systems, Windows 95, began to take over. </a:t>
            </a: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6:33:42Z</dcterms:created>
  <dc:creator>Prasanth</dc:creator>
  <dc:description/>
  <dc:language>en-US</dc:language>
  <cp:lastModifiedBy>PC-2</cp:lastModifiedBy>
  <dcterms:modified xsi:type="dcterms:W3CDTF">2010-02-26T07:36:20Z</dcterms:modified>
  <cp:revision>119</cp:revision>
  <dc:subject/>
  <dc:title>Chapter 1</dc:title>
</cp:coreProperties>
</file>