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498-FBF1-489C-93A7-4B5697E38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C86F-8B26-462D-BD84-B27FF6ABE5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485-CD36-4CED-AB98-98F36BA6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818-48A1-4E07-9BA7-80260C4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741-02A9-4C2A-90F9-99CA02FC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9EB-33D3-475A-8164-8A89DC95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75DA-62FC-47B9-ACB5-F1DE42E8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4F15-A5A6-4183-8B42-940EFE4D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254-B9BE-470C-92FC-9A31C56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4955-1713-4F4A-AE04-0DB16F27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05E8-EBB8-4B80-B918-47358379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561-5FFA-418D-9983-C0CCC776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98C3-A41A-4D54-B8F9-E4BFBF2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377-F2C8-4B17-AF39-0144555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5E8E-ACA1-4082-A93F-21CE11F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2B0E-B357-4CB6-B276-934D7757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F5DC-9DB4-426D-9973-9163C8C3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D63D-A07B-48E6-8D8D-26835647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972A-2777-4C4F-8380-49F2155F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F43A-22CB-4D9C-A197-F5C8D3EA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5B412-185E-4658-9628-EBDDA3C7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FC3F-9F59-4749-A916-1F5B66A3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6BC1-3DC0-446E-9DCE-00B2D441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0765-03B4-4556-AB29-11F3B69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3AE-D6D9-4968-84D8-FACBDB66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1E4A-CDA7-4A4E-A2F2-4BB72116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5F31B-7BB3-4A61-9139-B86B2C24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C389E-D0D2-4531-96CA-2F29A2FA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00D7-C3D9-418E-8814-262FB80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33DB-3CAA-4702-B0F2-EA4E0A67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550E-A9F8-4230-AFC8-A32BE830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1E0CE-82A9-4D67-A0E2-47067E0D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2C31E-B6EA-4192-AE70-19F5A7CD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7128B-A541-48F9-A090-AF20C08C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2E63-9C17-4805-A16D-83CAF893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E6E-2904-47BC-B93E-012C8082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B718D-676D-4988-839B-66C6C01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3A2F-689E-4683-95CD-FA4FC637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019FC-76AB-4073-9182-445E1A8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CD73-141F-4D5A-B0A6-D1ED307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EB9A-E1AB-4F16-B1FB-998FB09B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7793-272E-4ABA-B1BF-180B1B4E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A4A6-9A60-4EC5-B026-E93A3A9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1167-03DD-494F-A092-A6940AF4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398D-1103-47D8-A4C0-FA4AE100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FD552-C8A4-4B63-9AF8-8885BE52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DB1-9538-4D6A-AF68-2F2BC893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78459-0796-4943-936F-79256177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17F40-DD86-4A75-976F-0BAA92C5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14523-5BE6-45DB-B9D7-7C6E0CED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2CD6-4DD0-4529-BDCB-C6AF8F9D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BE966-1785-42A3-B032-76D626C3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10FD-E60C-4882-963C-BE29BB7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0B64E-0EA0-4608-8C42-C03CB38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06B7D-7BD9-4E27-A2DA-F57FD82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C5D8-5B79-41AF-8037-EFC73BE1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9D9C-B200-40E3-ABEB-419DA704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8C0-DA9F-42E7-AA51-74E84B6E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0DAED-5DBB-4F90-9473-2F8482C4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336A-6B12-439B-AE59-330B5A8D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D9EB-1410-4AC3-91BC-BFD66F53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75960-C1C4-484D-BE20-8501B2B3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BA19-F985-4141-9E99-0962761E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5DC8C-CE65-4083-9ABE-DFA283B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7A31-09FF-4431-939D-43ABD567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8F81-9357-4D4A-AD72-D46A699A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D813-8A02-4537-A108-F3B1986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8FEE9-5A2B-4F92-B77C-313E904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385-3CC7-40BE-A2DB-27678BF4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5E734-FF98-43E6-92F7-6AB08314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4020D-E610-4E98-82C7-937FC010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FDB5A-0AF3-42A6-A655-295DF89D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6033-2D57-46DC-BF6E-5377887B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7BEC-34E1-45F8-B0B2-E32D4DA9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B9CD6-3395-4EFE-8A7E-943E3FC5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C4094-E81E-4558-9724-E8F2FAB9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7397A-CBC5-41CF-8A5E-0412960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1AE0-A339-4883-90F2-9DC10AAA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7F9D2-3195-4369-9ADE-3A7DBA56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43E-5730-448A-AB6D-927E2037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D002-9FC9-4F3D-8BAD-52527373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390B-4FC4-45D3-BD92-69D28C85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0CABC-467A-44B2-A99A-94F43C4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D0BC4-4AA0-4DAA-B65C-DFBB4EB0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FDC7-43F8-4777-B04A-2B1D717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4EE49-8464-4564-A35F-BB272D30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BF744-8614-4001-898F-D6012B40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BD736-645A-4456-8EB4-8411FBBA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D5FDC-B5F2-452C-9B02-D8128839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D062-13F9-4058-A30A-F61E2633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E351-F9F3-4663-9430-CD9773D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082A-7F5D-484C-A124-4080587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72E8C-EE6B-46CA-9515-B0E1AAA3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7B22-B570-4A9D-A87B-442EFAE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965CB-4F00-471C-97F0-50CF859A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C613B-A075-4840-84CE-BAFB025F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14A33-3A0B-4370-A991-01B0D59E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E99E-B171-4666-B149-393EA440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94D3-AB13-47D7-BF82-672D2899B2E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686-5530-478A-8DC2-7DE901F6104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A5A3-C947-4EAB-A46D-723E00D8372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E1D2-F664-4B17-AD2C-03DD0929450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445-82B9-4F57-8DB6-A4D823BCBCC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2EC-D0CB-4D0A-AD7E-541D2B83953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2400" y="121752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88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2400" y="128232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5400" y="137016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89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5400" y="143496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7280" y="1473120"/>
              <a:ext cx="63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88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7280" y="1537920"/>
              <a:ext cx="63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0C4-0AAA-487F-87A2-5FD686AC4E7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CE0-E8E7-491B-8E44-FA9B88D1BDA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51460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pter </a:t>
            </a:r>
            <a:r>
              <a:rPr b="0" lang="en-US" sz="7100" spc="-1" strike="noStrike">
                <a:solidFill>
                  <a:srgbClr val="ffffff"/>
                </a:solidFill>
                <a:latin typeface="Corbel"/>
              </a:rPr>
              <a:t>15</a:t>
            </a:r>
            <a:endParaRPr b="0" lang="en-US" sz="71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26" name="Object 2"/>
          <p:cNvGraphicFramePr/>
          <p:nvPr/>
        </p:nvGraphicFramePr>
        <p:xfrm>
          <a:off x="914400" y="1295280"/>
          <a:ext cx="2487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487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8"/>
          <p:cNvSpPr/>
          <p:nvPr/>
        </p:nvSpPr>
        <p:spPr>
          <a:xfrm>
            <a:off x="68580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Dummy Variab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59025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"/>
          <p:cNvSpPr/>
          <p:nvPr/>
        </p:nvSpPr>
        <p:spPr>
          <a:xfrm>
            <a:off x="1981080" y="685800"/>
            <a:ext cx="4496040" cy="520560"/>
          </a:xfrm>
          <a:prstGeom prst="rect">
            <a:avLst/>
          </a:prstGeom>
          <a:solidFill>
            <a:srgbClr val="a7d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  IN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851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648320" cy="32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1523880" y="99072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7d6ff"/>
                </a:solidFill>
                <a:latin typeface="Arial"/>
              </a:rPr>
              <a:t>Difference in slope and Interc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23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5656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33412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257800" cy="55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65200" y="102960"/>
            <a:ext cx="81216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Consolas"/>
              </a:rPr>
              <a:t>Sales with Seasonal Variation</a:t>
            </a: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3" name="Picture 3" descr="f8_5"/>
          <p:cNvPicPr/>
          <p:nvPr/>
        </p:nvPicPr>
        <p:blipFill>
          <a:blip r:embed="rId1"/>
          <a:stretch/>
        </p:blipFill>
        <p:spPr>
          <a:xfrm>
            <a:off x="1371600" y="1749600"/>
            <a:ext cx="6781680" cy="439884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4"/>
          <p:cNvSpPr/>
          <p:nvPr/>
        </p:nvSpPr>
        <p:spPr>
          <a:xfrm>
            <a:off x="2468520" y="2090880"/>
            <a:ext cx="5585040" cy="21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5"/>
          <p:cNvGrpSpPr/>
          <p:nvPr/>
        </p:nvGrpSpPr>
        <p:grpSpPr>
          <a:xfrm>
            <a:off x="2468520" y="1984320"/>
            <a:ext cx="5585040" cy="2281320"/>
            <a:chOff x="2468520" y="1984320"/>
            <a:chExt cx="5585040" cy="2281320"/>
          </a:xfrm>
        </p:grpSpPr>
        <p:sp>
          <p:nvSpPr>
            <p:cNvPr id="456" name="Text Box 6"/>
            <p:cNvSpPr/>
            <p:nvPr/>
          </p:nvSpPr>
          <p:spPr>
            <a:xfrm>
              <a:off x="2468520" y="3522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7"/>
            <p:cNvSpPr/>
            <p:nvPr/>
          </p:nvSpPr>
          <p:spPr>
            <a:xfrm>
              <a:off x="2813040" y="37450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8"/>
            <p:cNvSpPr/>
            <p:nvPr/>
          </p:nvSpPr>
          <p:spPr>
            <a:xfrm>
              <a:off x="3105000" y="3583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9"/>
            <p:cNvSpPr/>
            <p:nvPr/>
          </p:nvSpPr>
          <p:spPr>
            <a:xfrm>
              <a:off x="3432240" y="2443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0"/>
            <p:cNvSpPr/>
            <p:nvPr/>
          </p:nvSpPr>
          <p:spPr>
            <a:xfrm>
              <a:off x="3759120" y="331164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11"/>
            <p:cNvSpPr/>
            <p:nvPr/>
          </p:nvSpPr>
          <p:spPr>
            <a:xfrm>
              <a:off x="4103640" y="30272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12"/>
            <p:cNvSpPr/>
            <p:nvPr/>
          </p:nvSpPr>
          <p:spPr>
            <a:xfrm>
              <a:off x="4448160" y="3022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13"/>
            <p:cNvSpPr/>
            <p:nvPr/>
          </p:nvSpPr>
          <p:spPr>
            <a:xfrm>
              <a:off x="4792680" y="23018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14"/>
            <p:cNvSpPr/>
            <p:nvPr/>
          </p:nvSpPr>
          <p:spPr>
            <a:xfrm>
              <a:off x="5049720" y="3100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5"/>
            <p:cNvSpPr/>
            <p:nvPr/>
          </p:nvSpPr>
          <p:spPr>
            <a:xfrm>
              <a:off x="5464080" y="28861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6"/>
            <p:cNvSpPr/>
            <p:nvPr/>
          </p:nvSpPr>
          <p:spPr>
            <a:xfrm>
              <a:off x="5808600" y="29685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7"/>
            <p:cNvSpPr/>
            <p:nvPr/>
          </p:nvSpPr>
          <p:spPr>
            <a:xfrm>
              <a:off x="6083280" y="20908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18"/>
            <p:cNvSpPr/>
            <p:nvPr/>
          </p:nvSpPr>
          <p:spPr>
            <a:xfrm>
              <a:off x="6410160" y="288936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19"/>
            <p:cNvSpPr/>
            <p:nvPr/>
          </p:nvSpPr>
          <p:spPr>
            <a:xfrm>
              <a:off x="6754680" y="2884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0"/>
            <p:cNvSpPr/>
            <p:nvPr/>
          </p:nvSpPr>
          <p:spPr>
            <a:xfrm>
              <a:off x="7099200" y="26002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21"/>
            <p:cNvSpPr/>
            <p:nvPr/>
          </p:nvSpPr>
          <p:spPr>
            <a:xfrm>
              <a:off x="7443720" y="198432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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2" name="Rectangle 22"/>
          <p:cNvSpPr/>
          <p:nvPr/>
        </p:nvSpPr>
        <p:spPr>
          <a:xfrm>
            <a:off x="2803680" y="5783400"/>
            <a:ext cx="4640040" cy="40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3"/>
          <p:cNvSpPr/>
          <p:nvPr/>
        </p:nvSpPr>
        <p:spPr>
          <a:xfrm>
            <a:off x="2813040" y="575316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4"/>
          <p:cNvSpPr/>
          <p:nvPr/>
        </p:nvSpPr>
        <p:spPr>
          <a:xfrm>
            <a:off x="4098960" y="575316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5"/>
          <p:cNvSpPr/>
          <p:nvPr/>
        </p:nvSpPr>
        <p:spPr>
          <a:xfrm>
            <a:off x="5375160" y="575316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6804000" y="5753160"/>
            <a:ext cx="816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"/>
          <p:cNvSpPr/>
          <p:nvPr/>
        </p:nvSpPr>
        <p:spPr>
          <a:xfrm>
            <a:off x="380880" y="83808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account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easonal time peri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– 1 dummy variables are a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ch dummy variable accounts for one seasonal tim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kes value of 1 for observations that occur during the season assigned to that dummy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kes value of 0 otherw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Dummy in seasonal analysis: profit- sales behavior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66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1 =1 for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quarter;    = 0 otherw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2 =1 for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quarter;    = 0 otherw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3 = 1 or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quarter;     = 0 otherw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4 = 1 for 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quarter;    = 0 otherwis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2240" indent="-282960"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-test slope terms to check if seasonality matter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80" name="Object 2"/>
          <p:cNvGraphicFramePr/>
          <p:nvPr/>
        </p:nvGraphicFramePr>
        <p:xfrm>
          <a:off x="1905120" y="1600200"/>
          <a:ext cx="50274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00200"/>
                    <a:ext cx="5027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"/>
          <p:cNvSpPr/>
          <p:nvPr/>
        </p:nvSpPr>
        <p:spPr>
          <a:xfrm>
            <a:off x="609480" y="1676520"/>
            <a:ext cx="76201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my variables (also known as binary, indicator, dichotomous, discrete, or categorical variables) are ways of incorporating qualitative information into regression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ummy variable is a variable that takes only two values, 1 or 0. Dummy variables (Indicator variables) are used to represen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at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minal or categorical) variables. They are very useful for capturing a variety of qualitative effec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2268000" y="457200"/>
            <a:ext cx="40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MMY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eeff"/>
                </a:solidFill>
                <a:latin typeface="Consolas"/>
              </a:rPr>
              <a:t>Semilog regression with dummy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Y=starting salary; D = 1 (male professor); X = teaching experie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olding gender constant, the average salary increases by 5% p.a. of teaching experien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rpret effects of gender by taking antilog of .13 (1.14), subtracting 1 (=0.14)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14%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the mean salary of male is 14% higher, holding experience constan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W: 15.27 and 15.28 (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rbel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ed of Gujarati)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1905120" y="1657440"/>
          <a:ext cx="533376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57440"/>
                    <a:ext cx="53337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iecewise linear mode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gression consists of two or more linear segments joined at one or more break points (also known as spline functions or jackknife model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f a breakpoint is believed to exist at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X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rbe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define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rbel"/>
              </a:rPr>
              <a:t>i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=1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&gt;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 c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D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Corbel"/>
              </a:rPr>
              <a:t>i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=0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f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X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Corbel"/>
              </a:rPr>
              <a:t>&lt;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 c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imate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0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88" name="Picture 4" descr="C:\text\Eco312\9_14.gif"/>
          <p:cNvPicPr/>
          <p:nvPr/>
        </p:nvPicPr>
        <p:blipFill>
          <a:blip r:embed="rId1"/>
          <a:stretch/>
        </p:blipFill>
        <p:spPr>
          <a:xfrm>
            <a:off x="1752480" y="4419720"/>
            <a:ext cx="5361120" cy="571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C:\text\Eco312\9_15.gif"/>
          <p:cNvPicPr/>
          <p:nvPr/>
        </p:nvPicPr>
        <p:blipFill>
          <a:blip r:embed="rId2"/>
          <a:stretch/>
        </p:blipFill>
        <p:spPr>
          <a:xfrm>
            <a:off x="857160" y="5257800"/>
            <a:ext cx="7677360" cy="111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C:\Book\GRAPHS\Fig9-4.gif"/>
          <p:cNvPicPr/>
          <p:nvPr/>
        </p:nvPicPr>
        <p:blipFill>
          <a:blip r:embed="rId1"/>
          <a:stretch/>
        </p:blipFill>
        <p:spPr>
          <a:xfrm>
            <a:off x="457200" y="457200"/>
            <a:ext cx="7924680" cy="58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20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96440" cy="329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"/>
          <p:cNvSpPr/>
          <p:nvPr/>
        </p:nvSpPr>
        <p:spPr>
          <a:xfrm>
            <a:off x="533520" y="2743200"/>
            <a:ext cx="8153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xy varia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an alternative variable used in a regression when direct information in not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762120" y="2144160"/>
            <a:ext cx="7467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 TEX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1.      COMPUTER EXERCISE ON LINEAR REGRESS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MMY VARIABLE-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.2.      COMPUTER EXERCISE ON LINEAR REGRESS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MMY VARIABLE-I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2895480" y="30751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CHAP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ummy variabl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ummy variables are used to represent qualitative variables such a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n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a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eographical loca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ducational attain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olicy chang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ummy variable,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= 1 if characteristic is present for observation </a:t>
            </a: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nd 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= 0 if the characteristic is not present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219320" y="4419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“gender”= nominal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ed into dummy variable “female”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al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ummy variables in practic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680" y="31237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It is common practice to have sets of dummy variables in a regression equation to capture the effect of qualitative variables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914400" y="13716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useful in regress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inal and ordinal variables can be transformed into dummy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ummy variable tr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en dummy variables are used to capture the effect of a set of mutually exclusive and collectively exhaustive alternatives, one variable must be excluded from the regression if a constant term is included in the regression (to avoid perfect multicollinearity with the constant ter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ommon error messages indicating this problem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rix cannot be invert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erfect multicollinearity problem exis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atrix is singula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just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arameter estimates cannot be formulate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1905120" y="18288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mmy Variable Trap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If you keep the constant term and use a dummy variable for each group, your program will not run! This situation is called the "dummy variable trap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6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01000" cy="59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46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72480" cy="36910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2"/>
          <p:cNvSpPr/>
          <p:nvPr/>
        </p:nvSpPr>
        <p:spPr>
          <a:xfrm>
            <a:off x="1600200" y="6094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7d6ff"/>
                </a:solidFill>
                <a:latin typeface="Arial"/>
              </a:rPr>
              <a:t>Difference in inter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8:57Z</dcterms:modified>
  <cp:revision>131</cp:revision>
  <dc:subject/>
  <dc:title>Chapter 1</dc:title>
</cp:coreProperties>
</file>