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C22-766E-459D-B9AF-6179226D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81C-82E1-44B8-A951-F93C0B20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0D4-A7E5-4E7F-9907-19876CFE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16D-31B0-4FE8-88F8-2BE21878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08C-E803-42AB-A66B-762A6DC4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F86-7891-42F8-A61E-78B26BC6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A3B-A829-4E03-AE66-5680E594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042-883D-46DD-9E9A-69C58626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7B5-0337-49CF-B4BF-CA3307D7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2BB-916A-4C06-BDEE-4C34BB05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10C-0963-4E74-A58E-F1A48B19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48F-BA0A-444D-9C7A-F5EAB7A9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9D20-F1FC-40C7-94B9-C527BDEC35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3"/>
          <p:cNvGrpSpPr/>
          <p:nvPr/>
        </p:nvGrpSpPr>
        <p:grpSpPr>
          <a:xfrm>
            <a:off x="1530360" y="2971800"/>
            <a:ext cx="5833800" cy="3244320"/>
            <a:chOff x="1530360" y="2971800"/>
            <a:chExt cx="5833800" cy="3244320"/>
          </a:xfrm>
        </p:grpSpPr>
        <p:sp>
          <p:nvSpPr>
            <p:cNvPr id="42" name="AutoShape 5"/>
            <p:cNvSpPr/>
            <p:nvPr/>
          </p:nvSpPr>
          <p:spPr>
            <a:xfrm>
              <a:off x="1530360" y="3809880"/>
              <a:ext cx="5833800" cy="2406240"/>
            </a:xfrm>
            <a:prstGeom prst="upArrow">
              <a:avLst>
                <a:gd name="adj1" fmla="val 87213"/>
                <a:gd name="adj2" fmla="val 5669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21"/>
            <p:cNvSpPr/>
            <p:nvPr/>
          </p:nvSpPr>
          <p:spPr>
            <a:xfrm>
              <a:off x="2994480" y="2971800"/>
              <a:ext cx="298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f497d"/>
                  </a:solidFill>
                  <a:latin typeface="Arial"/>
                  <a:ea typeface="新細明體"/>
                </a:rPr>
                <a:t>Dr.K.Dhanasekar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AutoShape 4"/>
          <p:cNvSpPr/>
          <p:nvPr/>
        </p:nvSpPr>
        <p:spPr>
          <a:xfrm>
            <a:off x="1143000" y="228600"/>
            <a:ext cx="6858000" cy="2971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Comput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i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Econom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690560" y="3892680"/>
            <a:ext cx="1600200" cy="1295280"/>
            <a:chOff x="1690560" y="3892680"/>
            <a:chExt cx="1600200" cy="1295280"/>
          </a:xfrm>
        </p:grpSpPr>
        <p:grpSp>
          <p:nvGrpSpPr>
            <p:cNvPr id="46" name="Group 7"/>
            <p:cNvGrpSpPr/>
            <p:nvPr/>
          </p:nvGrpSpPr>
          <p:grpSpPr>
            <a:xfrm>
              <a:off x="1690560" y="3892680"/>
              <a:ext cx="1600200" cy="1295280"/>
              <a:chOff x="1690560" y="3892680"/>
              <a:chExt cx="1600200" cy="1295280"/>
            </a:xfrm>
          </p:grpSpPr>
          <p:sp>
            <p:nvSpPr>
              <p:cNvPr id="47" name="Oval 8"/>
              <p:cNvSpPr/>
              <p:nvPr/>
            </p:nvSpPr>
            <p:spPr>
              <a:xfrm>
                <a:off x="1690560" y="3892680"/>
                <a:ext cx="1600200" cy="1295280"/>
              </a:xfrm>
              <a:prstGeom prst="ellipse">
                <a:avLst/>
              </a:prstGeom>
              <a:gradFill rotWithShape="0">
                <a:gsLst>
                  <a:gs pos="0">
                    <a:srgbClr val="c0504d"/>
                  </a:gs>
                  <a:gs pos="100000">
                    <a:srgbClr val="7a333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1873440" y="3913920"/>
                <a:ext cx="1234440" cy="48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504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Text Box 10"/>
            <p:cNvSpPr/>
            <p:nvPr/>
          </p:nvSpPr>
          <p:spPr>
            <a:xfrm>
              <a:off x="1762560" y="455040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Assoc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1"/>
          <p:cNvGrpSpPr/>
          <p:nvPr/>
        </p:nvGrpSpPr>
        <p:grpSpPr>
          <a:xfrm>
            <a:off x="3463920" y="3871800"/>
            <a:ext cx="1904760" cy="1295640"/>
            <a:chOff x="3463920" y="3871800"/>
            <a:chExt cx="1904760" cy="1295640"/>
          </a:xfrm>
        </p:grpSpPr>
        <p:grpSp>
          <p:nvGrpSpPr>
            <p:cNvPr id="51" name="Group 12"/>
            <p:cNvGrpSpPr/>
            <p:nvPr/>
          </p:nvGrpSpPr>
          <p:grpSpPr>
            <a:xfrm>
              <a:off x="3593880" y="3871800"/>
              <a:ext cx="1683360" cy="1295640"/>
              <a:chOff x="3593880" y="3871800"/>
              <a:chExt cx="1683360" cy="1295640"/>
            </a:xfrm>
          </p:grpSpPr>
          <p:sp>
            <p:nvSpPr>
              <p:cNvPr id="52" name="Oval 13"/>
              <p:cNvSpPr/>
              <p:nvPr/>
            </p:nvSpPr>
            <p:spPr>
              <a:xfrm>
                <a:off x="3593880" y="3871800"/>
                <a:ext cx="1683360" cy="129564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786120" y="3894120"/>
                <a:ext cx="1297440" cy="48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Text Box 15"/>
            <p:cNvSpPr/>
            <p:nvPr/>
          </p:nvSpPr>
          <p:spPr>
            <a:xfrm>
              <a:off x="3463920" y="456264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Professor 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6"/>
          <p:cNvGrpSpPr/>
          <p:nvPr/>
        </p:nvGrpSpPr>
        <p:grpSpPr>
          <a:xfrm>
            <a:off x="5624640" y="3933720"/>
            <a:ext cx="1643760" cy="1295640"/>
            <a:chOff x="5624640" y="3933720"/>
            <a:chExt cx="1643760" cy="1295640"/>
          </a:xfrm>
        </p:grpSpPr>
        <p:grpSp>
          <p:nvGrpSpPr>
            <p:cNvPr id="56" name="Group 17"/>
            <p:cNvGrpSpPr/>
            <p:nvPr/>
          </p:nvGrpSpPr>
          <p:grpSpPr>
            <a:xfrm>
              <a:off x="5624640" y="3933720"/>
              <a:ext cx="1598400" cy="1295640"/>
              <a:chOff x="5624640" y="3933720"/>
              <a:chExt cx="1598400" cy="129564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5624640" y="3933720"/>
                <a:ext cx="1598400" cy="1295640"/>
              </a:xfrm>
              <a:prstGeom prst="ellipse">
                <a:avLst/>
              </a:prstGeom>
              <a:gradFill rotWithShape="0">
                <a:gsLst>
                  <a:gs pos="0">
                    <a:srgbClr val="800080"/>
                  </a:gs>
                  <a:gs pos="100000">
                    <a:srgbClr val="1f001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5807160" y="3954960"/>
                <a:ext cx="1233000" cy="488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Text Box 20"/>
            <p:cNvSpPr/>
            <p:nvPr/>
          </p:nvSpPr>
          <p:spPr>
            <a:xfrm>
              <a:off x="5731200" y="4537080"/>
              <a:ext cx="153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Econom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-228600" y="5632560"/>
            <a:ext cx="9142200" cy="474840"/>
            <a:chOff x="-228600" y="5632560"/>
            <a:chExt cx="9142200" cy="474840"/>
          </a:xfrm>
        </p:grpSpPr>
        <p:grpSp>
          <p:nvGrpSpPr>
            <p:cNvPr id="61" name="Group 12"/>
            <p:cNvGrpSpPr/>
            <p:nvPr/>
          </p:nvGrpSpPr>
          <p:grpSpPr>
            <a:xfrm>
              <a:off x="548280" y="5632560"/>
              <a:ext cx="8078040" cy="456840"/>
              <a:chOff x="548280" y="5632560"/>
              <a:chExt cx="8078040" cy="456840"/>
            </a:xfrm>
          </p:grpSpPr>
          <p:sp>
            <p:nvSpPr>
              <p:cNvPr id="62" name="Oval 13"/>
              <p:cNvSpPr/>
              <p:nvPr/>
            </p:nvSpPr>
            <p:spPr>
              <a:xfrm>
                <a:off x="548280" y="5632560"/>
                <a:ext cx="80780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4"/>
              <p:cNvSpPr/>
              <p:nvPr/>
            </p:nvSpPr>
            <p:spPr>
              <a:xfrm>
                <a:off x="1471680" y="5640120"/>
                <a:ext cx="6226560" cy="17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Text Box 15"/>
            <p:cNvSpPr/>
            <p:nvPr/>
          </p:nvSpPr>
          <p:spPr>
            <a:xfrm>
              <a:off x="-228600" y="5708520"/>
              <a:ext cx="914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VRINDA PUBLICATIONS (P) LT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http://www.beyondmadisonavenue.com/wp-content/uploads/2009/08/social-media-marketing.jpg"/>
          <p:cNvPicPr/>
          <p:nvPr/>
        </p:nvPicPr>
        <p:blipFill>
          <a:blip r:embed="rId2"/>
          <a:stretch/>
        </p:blipFill>
        <p:spPr>
          <a:xfrm>
            <a:off x="2955960" y="1504800"/>
            <a:ext cx="2779560" cy="2549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5080" y="5257800"/>
            <a:ext cx="8991720" cy="5335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Autofit/>
          </a:bodyPr>
          <a:p>
            <a:pPr marL="3636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ECONOMICS  + MATHEMATICS + STATISTICS  + COMPUTER SCIE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11"/>
          <p:cNvGrpSpPr/>
          <p:nvPr/>
        </p:nvGrpSpPr>
        <p:grpSpPr>
          <a:xfrm>
            <a:off x="5029200" y="3124080"/>
            <a:ext cx="1981080" cy="1371600"/>
            <a:chOff x="5029200" y="3124080"/>
            <a:chExt cx="1981080" cy="1371600"/>
          </a:xfrm>
        </p:grpSpPr>
        <p:sp>
          <p:nvSpPr>
            <p:cNvPr id="68" name="Oval 13"/>
            <p:cNvSpPr/>
            <p:nvPr/>
          </p:nvSpPr>
          <p:spPr>
            <a:xfrm>
              <a:off x="5029200" y="3124080"/>
              <a:ext cx="1981080" cy="137160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5"/>
            <p:cNvSpPr/>
            <p:nvPr/>
          </p:nvSpPr>
          <p:spPr>
            <a:xfrm>
              <a:off x="5046120" y="328608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新細明體"/>
                </a:rPr>
                <a:t>Computer Sci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Group 6" descr=""/>
          <p:cNvPicPr/>
          <p:nvPr/>
        </p:nvPicPr>
        <p:blipFill>
          <a:blip r:embed="rId3"/>
          <a:stretch/>
        </p:blipFill>
        <p:spPr>
          <a:xfrm>
            <a:off x="1670040" y="2889360"/>
            <a:ext cx="2073240" cy="14634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1"/>
          <p:cNvGrpSpPr/>
          <p:nvPr/>
        </p:nvGrpSpPr>
        <p:grpSpPr>
          <a:xfrm>
            <a:off x="1828800" y="380880"/>
            <a:ext cx="1981080" cy="1371600"/>
            <a:chOff x="1828800" y="380880"/>
            <a:chExt cx="1981080" cy="1371600"/>
          </a:xfrm>
        </p:grpSpPr>
        <p:sp>
          <p:nvSpPr>
            <p:cNvPr id="72" name="Oval 13"/>
            <p:cNvSpPr/>
            <p:nvPr/>
          </p:nvSpPr>
          <p:spPr>
            <a:xfrm>
              <a:off x="1828800" y="380880"/>
              <a:ext cx="1981080" cy="1371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5"/>
            <p:cNvSpPr/>
            <p:nvPr/>
          </p:nvSpPr>
          <p:spPr>
            <a:xfrm>
              <a:off x="1980360" y="914040"/>
              <a:ext cx="166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Econom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1"/>
          <p:cNvGrpSpPr/>
          <p:nvPr/>
        </p:nvGrpSpPr>
        <p:grpSpPr>
          <a:xfrm>
            <a:off x="5029200" y="457200"/>
            <a:ext cx="1981080" cy="1371600"/>
            <a:chOff x="5029200" y="457200"/>
            <a:chExt cx="1981080" cy="1371600"/>
          </a:xfrm>
        </p:grpSpPr>
        <p:sp>
          <p:nvSpPr>
            <p:cNvPr id="75" name="Oval 13"/>
            <p:cNvSpPr/>
            <p:nvPr/>
          </p:nvSpPr>
          <p:spPr>
            <a:xfrm>
              <a:off x="5029200" y="457200"/>
              <a:ext cx="1981080" cy="13716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5"/>
            <p:cNvSpPr/>
            <p:nvPr/>
          </p:nvSpPr>
          <p:spPr>
            <a:xfrm>
              <a:off x="5180760" y="990360"/>
              <a:ext cx="1751040" cy="3988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athema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304920" y="257760"/>
            <a:ext cx="8610480" cy="6250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 to Computer Applications in Economics    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tarting SPSS and Entering Data in Windows             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scriptive Statistics            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nalysis of Variance(ANOVA)            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rrelation            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imple Linear Regression             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ultiple Linear Regression             -------------------------------------------------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emand Estimation and Elasticity            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Extensions of Linear Regression Model to Non-linear Relationships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Time series, Forecasting and Growth Rates           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Linear and Non-linear Production  Functions            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ost and Revenue Functions            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-even Analysis            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it Maximization: Equilibrium of the Firm            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ummy Variables           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Discriminant  Function            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siduals Analysis: Validating Model Assumptions  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ppendix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6:33:42Z</dcterms:created>
  <dc:creator>Prasanth</dc:creator>
  <dc:description/>
  <dc:language>en-US</dc:language>
  <cp:lastModifiedBy>PC-2</cp:lastModifiedBy>
  <dcterms:modified xsi:type="dcterms:W3CDTF">2010-02-26T07:36:08Z</dcterms:modified>
  <cp:revision>61</cp:revision>
  <dc:subject/>
  <dc:title>Chapter 1</dc:title>
</cp:coreProperties>
</file>